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90F-75C5-4594-AD48-491FE357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9EE-62A5-408B-9ECD-47D3473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B12-F947-4116-91E3-68A63C43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2AC-37F2-486F-8200-FDBA0854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624-8D03-400C-BF72-F539C95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B6E-411F-407A-A43E-3A8170D5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69B-F0BE-41FB-845D-D712B79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702-7E8C-4384-B57E-E45FE6C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7CA-6B31-4911-9E13-9241023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150-D6CD-4406-981A-774B42A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41E-6AF0-4BE9-ADA0-5D33FB1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FBE-6DC5-4C9B-90E2-997C6765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017-9DFE-4E38-A3B7-DBC16734467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E2AF-8F0D-4310-BCFB-7A6581FCA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ppelgratuite.canalblog.com/archives/2018/09/21/36722740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ichel.antony@wanadoo.f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HÉSION SOCIALE ET SERVICES PUBL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ctr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«Cohésion sociale» et territori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Quel sens ? COHÉSION = être attaché ensemble</a:t>
            </a:r>
            <a:br>
              <a:rPr sz="2600"/>
            </a:b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onvivialité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Universalisme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Solidari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Risques de dérives réductrices ?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issimulation des différences sociales, de classes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Forte Cohésion sociale comment ? vers une société unifiée et peu conflictuelle avec les SP au centre 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nvironnement et économie satisfaisan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gime réellement démocratiqu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ctr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Égalité et harmonie en tout lieu, sans rupture ville-campagne : aménagement territorial et S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26D-B059-4694-9209-0B9AB3CC0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II.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SERVICES PUBLICS – spécificité frança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P garants de l'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NTÉRÊT GÉNÉ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TRÔLE PUBLIC : État ou collectivit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ORGANISME de service public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 En France le terme SP désigne autant le SERVICE RENDU que le STATUT du FOURNISSEUR DE SERV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FONCTION PUBLIQU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5,5 M de fonctionnaires… Garantie neutralité et universalit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SERVICE AU PUBLIC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: concessions, conventions, rôle du privé…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Forte ambigüité du term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PUBLICS et biens et services COMMUNS, ou PROPRES, ou COMMUN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E701-F8DE-4325-A9C4-F2C345625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II. «Une passion française» ? </a:t>
            </a:r>
            <a:br>
              <a:rPr sz="3200"/>
            </a:b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Histoire longue et spécif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cien Régim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banalités, officiers, vénalité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ôle clé :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évolution frança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GAL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INUITÉ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UTABILITÉ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lus : LAÏCITÉ - UNIVERSAL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ILLAGE TERRITORIAL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on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XIM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éveloppement et apogée des SP et de L’ÉTAT PROVIDENCE : 1936, 1944-46, 1981-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puis années 1970 avec accélération actuelle : affaiblissements et mises à mal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4E82-B1B5-491F-B20D-6EB2CAEE3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IV. Évolutions désastreuses pour les SP </a:t>
            </a:r>
            <a:br>
              <a:rPr sz="3000"/>
            </a:b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Quelques cause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INSTITUTIONALISATION et gigantisme, </a:t>
            </a: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monopol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à la fois négatif et positi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HOIX LIBÉRAL (ou NÉO-LIBÉRAL), MARCHAND, PRIVÉ OU CAPITALISTE : vers les </a:t>
            </a: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oligopoles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 accords internationaux : OMC, AGCS, TAFTA,CETA</a:t>
            </a: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- accords européens : SIEG…</a:t>
            </a:r>
            <a:br>
              <a:rPr sz="3000"/>
            </a:b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MAIS C’EST UN CHOIX RÉSOLUMENT FRANÇ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DÉSENGAGEMENT IDÉOLOGIQUE ET ADMINISTRATIF DE L'ÉT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Triomphe des VISIONS CENTRALISATRIC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FIN DES STATUTS UNIFICATEURS, Réforme 20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C18-04CF-4DDC-A8D3-3A61C74B6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V. CONSÉQUENCES ÉVIDENTES ET PALPABLES : </a:t>
            </a:r>
            <a:br>
              <a:rPr sz="2500"/>
            </a:b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des SP en crise grave et profon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qualitativ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Moins denses, moins fournis, moins performants, moins accessibles, moins sûrs et moins adaptés aux besoins…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t donc de plus en plus délaissés, ce qui justifie d’autres réductions… Phénomène en chaîne 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géographique, territoriale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 et </a:t>
            </a: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écologiqu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tripl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eine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our les usagers et personne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sociale et financièr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, moins d’emplois, de CDI, de fonctionnaires, de lits hospitaliers, de matériels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humaine citoyenn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 u="sng">
                <a:solidFill>
                  <a:srgbClr val="000000"/>
                </a:solidFill>
                <a:uFillTx/>
                <a:latin typeface="Calibri"/>
              </a:rPr>
              <a:t>Détérioration démocratique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Éloignement et réductions </a:t>
            </a: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moindre contrôle démocrat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11AC-25DE-4948-B78F-B779F79B4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VI. Pourquoi le SP de proximité est nécessai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politique et administrativ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UNICITÉ, UNIVERSALITÉ et ÉGALITÉ TERRITORIAL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éthique et solidair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a COHÉSION SOCIALE, du ciment social, de la qualité de v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socio-économ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'EMPLOI et d'un secteur économique local essentiel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liée au développement global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'ATTRACTIVITÉ D'UNE RÉG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sociolog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maintien de la DIVERSITÉ SOCIOLOGIQU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Raison ÉCOLOGIQU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: transports, transfert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8D77-5A61-4D2F-BFB2-1B0EA5B17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vitale : une CHANCE DE V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psychologiqu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CONFIDENTIALITÉ et CONFIANCE en des spéciali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D'ÉQUILIBRE et de bon sens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un avantage contre les excès des mégapo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DÉMOCRATIQU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remettre les citoyens au cent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Raison POLITIQU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maintenir des SP de PROXIMITÉ c'est contrer les mouvements confessionnels ou extrémi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46A-0FDA-4D6D-8169-552670147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VII. REVALORISER LES NOTIONS DE SP, D'AMÉNAGEMENT DU TERRITOIRE ET DE PROXIMITÉ : quelques pistes incontourn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. MORATOIRE sur toutes les suppressions de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I. Prise en compte prioritaire des BESOINS DES TERRITOIRES ET DES PERSON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TTENTION : cette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ise en compte doit être GLOBAL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tous services confondus : fin du saucissonn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III.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ffecter les MOYENS et PERSONNEL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nécess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emple : développer l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entres de santé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imiter la liberté d’installa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médec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xtension du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incipe de SUBSIDIARITÉ (priorité à la PROXIMITÉ, au premier échelon)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ccompagné du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principe de SUPPLÉANCE (appui de l'échelon supérieur si besoi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V. Vers la GRATUITÉ des services publics ? 100% Sécu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alibri"/>
              </a:rPr>
              <a:t>Appel pour une civilisation de la gratuité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ppelgratuite.canalblog.com/archives/2018/09/21/36722740.htm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VI. GESTION PLUS DÉMOCRATIQUE, AUTOGESTIONNAIRE ?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fr-FR" sz="1800" spc="-1" strike="noStrike">
                <a:solidFill>
                  <a:srgbClr val="ff0000"/>
                </a:solidFill>
                <a:latin typeface="Calibri"/>
              </a:rPr>
              <a:t>Élus locaux, usagers-citoyens, personnels concerné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- Dans le cadre le plus proche des habitants : COM-COM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440-55FF-4B1A-97B9-54D6BFD3A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8000" y="404640"/>
            <a:ext cx="8856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ichel.antony@wanadoo.f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- http://www.acratie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ki : https://fr.wikipedia.org/wiki/Michel_Anto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ité de Vigilance 70 : comvig70@gmai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VERGENCE NATION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ttp://www.convergence-sp.org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 Manife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https://www.convergence-sp.fr/manifeste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ORDINATION NATIONA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http://coordination-defense-sante.org/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1187280" y="573264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mière publication 2015 – Mise à jour mai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801D-4373-42C0-976A-F9B05B98B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ervices publics et cohésion soc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5T12:02:02Z</dcterms:created>
  <dc:creator>Michel ANTONY</dc:creator>
  <dc:description/>
  <dc:language>en-US</dc:language>
  <cp:lastModifiedBy>Michel ANTONY</cp:lastModifiedBy>
  <dcterms:modified xsi:type="dcterms:W3CDTF">2019-05-09T12:51:17Z</dcterms:modified>
  <cp:revision>27</cp:revision>
  <dc:subject/>
  <dc:title>COHÉSION SOCIALE ET SERVICES PUBLICS</dc:title>
</cp:coreProperties>
</file>