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92C-7CAD-40BA-B034-E070244C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FF7-D8CA-4E9D-B40D-07C2CD81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E1F-0980-4FEE-A8B6-A88D78BB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505-2741-4A1D-8DB5-697C1814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2FF-D889-484B-B854-630ED303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9E0-44EF-44D8-B30F-C414536C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C58-1B9B-4A2E-805D-D2667BFA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B9A-11C1-461C-81F8-0A281952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1F4-CBDA-4960-9B03-D7DC135D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FA5-246F-49DC-91BE-F911D4B5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C01-10AD-40DA-8352-140894D3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1E4-50FA-4A83-94A7-02B2F10E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9026-1851-403D-8217-40701F4A623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B22A-39EB-4191-8A61-96A1A12F0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ppelgratuite.canalblog.com/archives/2018/09/21/36722740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ichel.antony@wanadoo.fr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1527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COHÉSION SOCIALE ET SERVICES PUBL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141264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 algn="ctr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«Cohésion sociale» et territori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7375e"/>
                </a:solidFill>
                <a:latin typeface="Calibri"/>
              </a:rPr>
              <a:t>Quel sens ? COHÉSION = être attaché ensemble</a:t>
            </a:r>
            <a:br>
              <a:rPr sz="2600"/>
            </a:b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onvivialité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Universalisme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Solidari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7375e"/>
                </a:solidFill>
                <a:latin typeface="Calibri"/>
              </a:rPr>
              <a:t>Risques de dérives réductrices ?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issimulation des différences sociales, de classes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7375e"/>
                </a:solidFill>
                <a:latin typeface="Calibri"/>
              </a:rPr>
              <a:t>Forte Cohésion sociale comment ? vers une société unifiée et peu conflictuelle avec les SP au centre 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Environnement et économie satisfaisan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égime réellement démocratiqu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Égalité et harmonie en tout lieu, sans rupture ville-campagne : aménagement territorial et S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FCA6-F122-4378-9144-7FB03E880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II.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SERVICES PUBLICS – spécificité frança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P garants de l'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INTÉRÊT GÉNÉ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CONTRÔLE PUBLIC : État ou collectivit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ORGANISME de service public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. En France le terme SP désigne autant le SERVICE RENDU que le STATUT du FOURNISSEUR DE SERV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FONCTION PUBLIQU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5,5 M de fonctionnaires… Garantie neutralité et universalit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SERVICE AU PUBLIC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: concessions, conventions, rôle du privé…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Forte ambigüité du terme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PUBLICS et biens et services COMMUNS, ou PROPRES, ou COMMUNAU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B204-3799-4C92-86F8-79824D32A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II. «Une passion française» ? </a:t>
            </a:r>
            <a:br>
              <a:rPr sz="3200"/>
            </a:b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Histoire longue et spécif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ncien Régim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banalités, officiers, vénalité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ôle clé :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évolution frança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GALI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UNI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TINUI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UTABILITÉ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lus : LAÏCITÉ - UNIVERSAL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AILLAGE TERRITORIAL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onc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XIM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éveloppement et apogée des SP et de L’ÉTAT PROVIDENCE : 1936, 1944-46, 1981-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epuis années 1970 avec accélération actuelle : affaiblissements et mises à mal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8625-73E7-46B6-B659-351877B72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IV. Évolutions désastreuses pour les SP </a:t>
            </a:r>
            <a:br>
              <a:rPr sz="3000"/>
            </a:b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Quelques cause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INSTITUTIONALISATION et gigantisme, </a:t>
            </a: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monopol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à la fois négatif et positi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CHOIX LIBÉRAL (ou NÉO-LIBÉRAL), MARCHAND, PRIVÉ OU CAPITALISTE : vers les </a:t>
            </a: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oligopoles</a:t>
            </a:r>
            <a:br>
              <a:rPr sz="3000"/>
            </a:b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- accords internationaux : OMC, AGCS, TAFTA,CETA</a:t>
            </a:r>
            <a:br>
              <a:rPr sz="3000"/>
            </a:b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- accords européens : SIEG…</a:t>
            </a:r>
            <a:br>
              <a:rPr sz="3000"/>
            </a:b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MAIS C’EST UN CHOIX RÉSOLUMENT FRANÇ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ÉSENGAGEMENT IDÉOLOGIQUE ET ADMINISTRATIF DE L'ÉT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Triomphe des VISIONS CENTRALISATRIC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FIN DES STATUTS UNIFICATEURS, Réforme 20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D829-B431-40D0-8BB6-48E69D023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V. CONSÉQUENCES ÉVIDENTES ET PALPABLES : </a:t>
            </a:r>
            <a:br>
              <a:rPr sz="2500"/>
            </a:b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des SP en crise grave et profon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Détérioration qualitativ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7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Moins denses, moins fournis, moins performants, moins accessibles, moins sûrs et moins adaptés aux besoins…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t donc de plus en plus délaissés, ce qui justifie d’autres réductions… Phénomène en chaîne 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Détérioration géographique, territoriale</a:t>
            </a:r>
            <a:r>
              <a:rPr b="0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 et </a:t>
            </a: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écologiqu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tripl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peine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our les usagers et personne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Détérioration sociale et financièr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, moins d’emplois, de CDI, de fonctionnaires, de lits hospitaliers, de matériels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Détérioration humaine citoyenn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Détérioration démocratiqu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7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Éloignement et réductions </a:t>
            </a:r>
            <a:r>
              <a:rPr b="0" lang="fr-FR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moindre contrôle démocratiq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382-F9DD-4795-BBE2-81C1EA036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VI. Pourquoi le SP de proximité est nécessa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politique et administrativ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UNICITÉ, UNIVERSALITÉ et ÉGALITÉ TERRITORIAL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éthique et solidair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maintien de la COHÉSION SOCIALE, du ciment social, de la qualité de v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socio-économiqu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maintien de L'EMPLOI et d'un secteur économique local essentiel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liée au développement global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maintien de L'ATTRACTIVITÉ D'UNE RÉG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sociologiqu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maintien de la DIVERSITÉ SOCIOLOGIQU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ÉCOLOGIQU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transports, transfert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C56E-307F-4F35-8542-847EF33F5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ison vitale : une CHANCE DE V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ison psychologiqu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CONFIDENTIALITÉ et CONFIANCE en des spécialis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ison D'ÉQUILIBRE et de bon sens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un avantage contre les excès des mégapo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ison DÉMOCRATIQU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remettre les citoyens au cent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ison POLITIQU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maintenir des SP de PROXIMITÉ c'est contrer les mouvements confessionnels ou extrémis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C605-01C1-4FCB-A96D-71CD3C136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VII. REVALORISER LES NOTIONS DE SP, D'AMÉNAGEMENT DU TERRITOIRE ET DE PROXIMITÉ : quelques pistes incontourn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I. MORATOIRE sur toutes les suppressions de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II. Prise en compte prioritaire des BESOINS DES TERRITOIRES ET DES PERSON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TTENTION : cette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ise en compte doit être GLOBAL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tous services confondus : fin du saucissonn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III.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ffecter les MOYENS et PERSONNELS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nécessai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emple : développer l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entres de santé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imiter la liberté d’installation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médeci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IV.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xtension du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incipe de SUBSIDIARITÉ (priorité à la PROXIMITÉ, au premier échelon)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ccompagné du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principe de SUPPLÉANCE (appui de l'échelon supérieur si besoi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V. Vers la GRATUITÉ des services publics ? 100% Sécu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Calibri"/>
              </a:rPr>
              <a:t>Appel pour une civilisation de la gratuité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ppelgratuite.canalblog.com/archives/2018/09/21/36722740.htm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VI. GESTION PLUS DÉMOCRATIQUE, AUTOGESTIONNAIRE ?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Élus locaux, usagers-citoyens, personnels concerné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- Dans le cadre le plus proche des habitants : COM-COM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0BCA-7C2E-4D8A-AA74-491E928AC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8000" y="404640"/>
            <a:ext cx="8856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ichel.antony@wanadoo.f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- http://www.acratie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ki : https://fr.wikipedia.org/wiki/Michel_Anto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ité de Vigilance 70 : comvig70@gmai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VERGENCE NATIONA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ttp://www.convergence-sp.org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e Manifest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https://www.convergence-sp.fr/manifeste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ORDINATION NATIONA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http://coordination-defense-sante.org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3"/>
          <p:cNvSpPr/>
          <p:nvPr/>
        </p:nvSpPr>
        <p:spPr>
          <a:xfrm>
            <a:off x="1187280" y="573264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emière publication 2015 – Mise à jour mai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57AD-A16E-4D59-8C10-984907983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5T12:02:02Z</dcterms:created>
  <dc:creator>Michel ANTONY</dc:creator>
  <dc:description/>
  <dc:language>en-US</dc:language>
  <cp:lastModifiedBy>Michel ANTONY</cp:lastModifiedBy>
  <dcterms:modified xsi:type="dcterms:W3CDTF">2019-05-09T12:51:17Z</dcterms:modified>
  <cp:revision>27</cp:revision>
  <dc:subject/>
  <dc:title>COHÉSION SOCIALE ET SERVICES PUBLICS</dc:title>
</cp:coreProperties>
</file>