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C1EC-4410-411D-85E4-420CF3D19E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2202-06E4-40B1-AA75-9C8A58BDEF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A66-4BF0-4E7D-B968-A6171796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C6C-5611-43CA-9847-4D3608F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D7D-E931-4B0F-B5DA-8F2DF8BD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5FC-0E8D-4B8A-9598-DB5B28C0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E6F-6FE1-4908-B7F8-05B4D115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F0C-6ECD-4F9C-9CE7-5D8F837F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22B-2A46-4881-8984-B2E1931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DD3-8C24-493D-9AF1-85427334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441-B43E-451D-8827-0A705AB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577-BA1E-4D88-8DC0-55F20D48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22A-4CA9-4B5F-A02E-82EDB95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48E-FF9C-455A-B50B-5CD405A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5EF-4F7D-4A1A-ADE6-CAEADF7CA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U PARTAGE… À LA SOCIÉTÉ COLLABORATIVE. UNE UTOPIE MODERNE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98989"/>
                </a:solidFill>
                <a:latin typeface="Calibri"/>
              </a:rPr>
              <a:t>Quelques rapides précisions introdu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3"/>
          <p:cNvSpPr/>
          <p:nvPr/>
        </p:nvSpPr>
        <p:spPr>
          <a:xfrm>
            <a:off x="1258920" y="558972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chel ANTONY -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Michel.antony@wanadoo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DE8-8252-45F4-97EF-A9B0EA1EA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e la date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PARTAGE</a:t>
            </a: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9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= Diviser, distribuer, </a:t>
            </a:r>
            <a:br>
              <a:rPr sz="49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répartir… </a:t>
            </a:r>
            <a:r>
              <a:rPr b="1" lang="fr-FR" sz="4900" spc="-1" strike="noStrike">
                <a:solidFill>
                  <a:srgbClr val="ff0000"/>
                </a:solidFill>
                <a:latin typeface="Calibri"/>
              </a:rPr>
              <a:t>en parts</a:t>
            </a:r>
            <a:br>
              <a:rPr sz="49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 tout avoir en commu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har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u Za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lidar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mutualis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ociation &amp;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29A-A89E-4B21-B3BC-700895414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QUOI PARTAGER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iens communs et/ou récupéré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air, eau, forêts, sols, le capital, les moyens de production et d'habitat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ropriété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les nécessités de la production voire 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leur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rganis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iens produi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à consommer ou utiliser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nsomm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écisions, l'administration, la ges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gestion ou autogestion ?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écis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D3E-F696-430E-968C-4015B3971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400"/>
            </a:b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Péjorativement</a:t>
            </a: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 (fantasme, illusion)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positivement</a:t>
            </a: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 (projet ou potentialité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non lieu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u-topi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), ou pas de lieu ou d'existence, ailleurs dans le temps ou dans l'esp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ieu plus harmonieux ou heureu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eu-topi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ual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à la fois un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pensé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projet, programme… et un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expériment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onc partielle, pragmatique, réformiste ou révolutionnair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A13-3C25-40CA-AC67-8BC4ACA06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DERNE ?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Qualificatif présomptueux car multiples traces dans le pass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oderne dans la thématique ou dans la form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irage d'internet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censure étatique, grands groupes capitalistiques dominateurs) mais aussi outil fabuleux pour propulser, expérimenter et répandre (démultiplicateur)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oderne dans la pensée ou dans la formul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ollaboratif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mot nouveau et pas forcément bien choisi (période noire de la Collaboration) comm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ommu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2778-9E25-4096-9967-738F992BF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MMENT PARTAGER 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galitairem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même produits, même salaires, même travail, même pouvoi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manièr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égalitair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en fonction de l'âge, du sexe, de l'apport en capital, de la qualification et du talent, du type d'emploi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mêm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ccupée en 1973 finit par accepter un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hiérarchie salar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OURIE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qui prenait en compte 3 critères :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apital, travail et tal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A711-560B-4BB5-B1C9-0E535ADB7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LLABORATIF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= collectif, commun, mutualiste, participatif, contributif…</a:t>
            </a:r>
            <a:br>
              <a:rPr sz="40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erme peu heureux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ar renvoie aux collaborateurs et collaborationnistes de triste mémoire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rétribué ou non ?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gratuit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moi est à toi</a:t>
            </a:r>
            <a:r>
              <a:rPr b="0" lang="fr-FR" sz="25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Tom SLE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 non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pas spoliation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toi est à mo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plutôt avec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réciprocité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moi est à toi ET ce qui est à toi est à moi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modifiable ou non ?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lib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entre pair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peer to peer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) ou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entre inégaux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sous-traitants)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volontair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(autonomie de décision)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ou non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choix obligatoire d'une firme, d'une société, d'un group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77DB-3E2B-4D6E-AD19-49C73A67D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39:57Z</dcterms:created>
  <dc:creator>Michel ANTONY</dc:creator>
  <dc:description/>
  <dc:language>en-US</dc:language>
  <cp:lastModifiedBy>Michel ANTONY</cp:lastModifiedBy>
  <dcterms:modified xsi:type="dcterms:W3CDTF">2016-11-08T10:33:13Z</dcterms:modified>
  <cp:revision>6</cp:revision>
  <dc:subject/>
  <dc:title>DU PARTAGE… À LA SOCIÉTÉ COLLABORATIVE. UNE UTOPIE MODERNE ?</dc:title>
</cp:coreProperties>
</file>