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A996-8BB4-448A-82BA-292D55EEE1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8744-EB9D-4F69-9E69-33D6483F1A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583-B86E-41AF-895F-B2E8F0E3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7F9-16F8-4BFA-A354-24672EB9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7BE-E035-4FDD-9C29-9978D99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C7B-D593-425E-A5AB-6B94CC5A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9D8-52CB-4217-9B60-76AA9EE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1F3-FAFC-47F9-914F-4996ECE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8E4-DE00-43A0-9625-F52440CF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7FE-F31B-41FF-AE33-F15FEBE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7A2-38E7-4E0D-A110-6BFC6973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8AB-BB7E-46A9-BA97-EE374FA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B2F-530A-4705-99CE-7EB848A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B19E-A9A7-4004-80F4-11F4545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6E1-529F-4980-921A-8E6821DF0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DU PARTAGE… À LA SOCIÉTÉ COLLABORATIVE. UNE UTOPIE MODERNE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898989"/>
                </a:solidFill>
                <a:latin typeface="Calibri"/>
              </a:rPr>
              <a:t>Quelques rapides précisions introdu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3"/>
          <p:cNvSpPr/>
          <p:nvPr/>
        </p:nvSpPr>
        <p:spPr>
          <a:xfrm>
            <a:off x="1258920" y="558972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ichel ANTONY - </a:t>
            </a:r>
            <a:r>
              <a:rPr b="1" lang="fr-FR" sz="1800" spc="-1" strike="noStrike">
                <a:solidFill>
                  <a:srgbClr val="558ed5"/>
                </a:solidFill>
                <a:latin typeface="Calibri"/>
              </a:rPr>
              <a:t>Michel.antony@wanadoo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FF82-791A-40FB-B047-CAA969309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ce réservé du pied de pag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e la date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PARTAGE</a:t>
            </a: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9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= Diviser, distribuer, </a:t>
            </a:r>
            <a:br>
              <a:rPr sz="4900"/>
            </a:br>
            <a:r>
              <a:rPr b="0" lang="fr-FR" sz="4900" spc="-1" strike="noStrike">
                <a:solidFill>
                  <a:srgbClr val="000000"/>
                </a:solidFill>
                <a:latin typeface="Calibri"/>
              </a:rPr>
              <a:t>répartir… </a:t>
            </a:r>
            <a:r>
              <a:rPr b="1" lang="fr-FR" sz="4900" spc="-1" strike="noStrike">
                <a:solidFill>
                  <a:srgbClr val="ff0000"/>
                </a:solidFill>
                <a:latin typeface="Calibri"/>
              </a:rPr>
              <a:t>en parts</a:t>
            </a:r>
            <a:br>
              <a:rPr sz="49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 tout avoir en commu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har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ou Za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olidar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mutualis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ssociation &amp;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F353-519F-4837-B4CC-7F14C01F0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QUOI PARTAGER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iens communs et/ou récupéré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air, eau, forêts, sols, le capital, les moyens de production et d'habitat…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Propriété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ravai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les nécessités de la production voire 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ravailleur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Organisat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iens produi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à consommer ou utiliser…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onsommat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écisions, l'administration, la ges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gestion ou autogestion ?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écisi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25AE-97C9-4B2B-B7EF-E9AA84BE3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UTOPIE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400"/>
            </a:br>
            <a:r>
              <a:rPr b="1" lang="fr-FR" sz="3100" spc="-1" strike="noStrike">
                <a:solidFill>
                  <a:srgbClr val="000000"/>
                </a:solidFill>
                <a:latin typeface="Calibri"/>
              </a:rPr>
              <a:t>Péjorativement</a:t>
            </a:r>
            <a:r>
              <a:rPr b="0" lang="fr-FR" sz="3100" spc="-1" strike="noStrike">
                <a:solidFill>
                  <a:srgbClr val="000000"/>
                </a:solidFill>
                <a:latin typeface="Calibri"/>
              </a:rPr>
              <a:t> (fantasme, illusion) </a:t>
            </a:r>
            <a:br>
              <a:rPr sz="3100"/>
            </a:br>
            <a:r>
              <a:rPr b="0" lang="fr-FR" sz="31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3100" spc="-1" strike="noStrike">
                <a:solidFill>
                  <a:srgbClr val="000000"/>
                </a:solidFill>
                <a:latin typeface="Calibri"/>
              </a:rPr>
              <a:t>positivement</a:t>
            </a:r>
            <a:r>
              <a:rPr b="0" lang="fr-FR" sz="3100" spc="-1" strike="noStrike">
                <a:solidFill>
                  <a:srgbClr val="000000"/>
                </a:solidFill>
                <a:latin typeface="Calibri"/>
              </a:rPr>
              <a:t> (projet ou potentialité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non lieu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u-topi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), ou pas de lieu ou d'existence, ailleurs dans le temps ou dans l'esp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ieu plus harmonieux ou heureux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eu-topi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ualité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à la fois un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pensé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projet, programme… et un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expériment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donc partielle, pragmatique, réformiste ou révolutionnair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86C-A479-4053-A88D-FB405F466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ODERNE ?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Qualificatif présomptueux car multiples traces dans le pass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oderne dans la thématique ou dans la forme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f.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irage d'internet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censure étatique, grands groupes capitalistiques dominateurs) mais aussi outil fabuleux pour propulser, expérimenter et répandre (démultiplicateur)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Moderne dans la pensée ou dans la formulatio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collaboratif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mot nouveau et pas forcément bien choisi (période noire de la Collaboration) comm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commun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9DB-8429-440D-A95E-68636B3EC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MMENT PARTAGER 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galitaireme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même produits, même salaires, même travail, même pouvoi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manièr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négalitair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en fonction de l'âge, du sexe, de l'apport en capital, de la qualification et du talent, du type d'emploi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ppe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mêm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IP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occupée en 1973 finit par accepter un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hiérarchie salari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f.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OURIE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qui prenait en compte 3 critères :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apital, travail et tale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634-D98A-41B2-88A0-0D8B7586D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LLABORATIF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= collectif, commun, mutualiste, participatif, contributif…</a:t>
            </a:r>
            <a:br>
              <a:rPr sz="40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Terme peu heureux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ar renvoie aux collaborateurs et collaborationnistes de triste mémoire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rétribué ou non ?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gratuit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i="1" lang="fr-FR" sz="2500" spc="-1" strike="noStrike">
                <a:solidFill>
                  <a:srgbClr val="558ed5"/>
                </a:solidFill>
                <a:latin typeface="Calibri"/>
              </a:rPr>
              <a:t>ce qui est à moi est à toi</a:t>
            </a:r>
            <a:r>
              <a:rPr b="0" lang="fr-FR" sz="25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Tom SLE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 non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pas spoliation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i="1" lang="fr-FR" sz="2500" spc="-1" strike="noStrike">
                <a:solidFill>
                  <a:srgbClr val="558ed5"/>
                </a:solidFill>
                <a:latin typeface="Calibri"/>
              </a:rPr>
              <a:t>ce qui est à toi est à mo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mais plutôt avec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réciprocité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1" i="1" lang="fr-FR" sz="2500" spc="-1" strike="noStrike">
                <a:solidFill>
                  <a:srgbClr val="558ed5"/>
                </a:solidFill>
                <a:latin typeface="Calibri"/>
              </a:rPr>
              <a:t>ce qui est à moi est à toi ET ce qui est à toi est à moi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modifiable ou non ?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lib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entre pairs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peer to peer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) ou </a:t>
            </a: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entre inégaux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sous-traitants)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volontaire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 (autonomie de décision) </a:t>
            </a:r>
            <a:r>
              <a:rPr b="0" lang="fr-FR" sz="2500" spc="-1" strike="noStrike" u="sng">
                <a:solidFill>
                  <a:srgbClr val="000000"/>
                </a:solidFill>
                <a:uFillTx/>
                <a:latin typeface="Calibri"/>
              </a:rPr>
              <a:t>ou non </a:t>
            </a: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(choix obligatoire d'une firme, d'une société, d'un group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Du par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1C02-65F5-4519-A8AE-28018D250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e la date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Novembre 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39:57Z</dcterms:created>
  <dc:creator>Michel ANTONY</dc:creator>
  <dc:description/>
  <dc:language>en-US</dc:language>
  <cp:lastModifiedBy>Michel ANTONY</cp:lastModifiedBy>
  <dcterms:modified xsi:type="dcterms:W3CDTF">2016-11-08T10:33:13Z</dcterms:modified>
  <cp:revision>6</cp:revision>
  <dc:subject/>
  <dc:title>DU PARTAGE… À LA SOCIÉTÉ COLLABORATIVE. UNE UTOPIE MODERNE ?</dc:title>
</cp:coreProperties>
</file>