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E102-D595-4C31-A499-563387426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E9D6-BEA6-427A-AE2A-E2F5A4A5F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8EA0-D980-4C5B-BC09-3461CD083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E291-0CE3-4E0C-9451-D3ED9DDD3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78E7-7C9C-42F2-AF40-75E589415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D962-6A6C-481C-80BD-DA3ACFDA4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8F48-75F6-46C1-AFE8-B9E250CB0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1B36-D60F-4069-BFBF-37FDEAC9C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8D88-6CD6-4D8B-882A-AFA4A3B77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29F3-30AF-4CB4-83DF-C131621C7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A143-A398-454D-9C82-5C266CDE5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A4EB-5A74-4F4A-9F88-0D40846A5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Novembre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Essai de synthè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54C11-0FE3-4341-B178-FBE9C41F40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23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DU PARTAGE… À LA SOCIÉTÉ COLLABORATIVE. UNE UTOPIE MODERNE 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2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4a452a"/>
                </a:solidFill>
                <a:latin typeface="Calibri"/>
              </a:rPr>
              <a:t>QUELQUES REMARQUES POUR UNE CONCLUSION PROVISO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ZoneTexte 3"/>
          <p:cNvSpPr/>
          <p:nvPr/>
        </p:nvSpPr>
        <p:spPr>
          <a:xfrm>
            <a:off x="900000" y="5661000"/>
            <a:ext cx="77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ichel ANTONY – michel.antony@wanadoo.fr  - http://www.acratie.e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Espace réservé de la dat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Novembre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DC95F-107C-49C5-BB5C-6DB123CF15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Espace réservé du pied de page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Essai de synthè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r WWW.ACRATIE.EU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Utopistes et utopies comtoises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http://www.acratie.eu/UtopiesFC.htm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Définitions des utopies et des socialismes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http://www.acratie.eu/FTPUTOP/U1-DEFIN.DOC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Expérimentations :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micro-communautés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http://www.acratie.eu/FTPUTOP/U5P-A-MICRO.DOC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Expérimentations :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utopédagogies</a:t>
            </a:r>
            <a:br>
              <a:rPr sz="2800"/>
            </a:b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http://www.acratie.eu/FTPUTOP/U5P-B-PEDA.DOC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Peuples premiers, Auto-constructions, Internet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…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http://www.acratie.eu/FTPUTOP/U4TRACES.DOC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Michel ANTONY : https://fr.wikipedia.org/wiki/Michel_Anton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Espace réservé de la date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Novembre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Espace réservé du pied de pag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Essai de synthè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89DFF-2FC2-4F71-807A-7B72969A43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4000"/>
            </a:b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ANCIENNETÉ DES IDÉES DE PARTAGE. 1/2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Sociétés premières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: </a:t>
            </a:r>
            <a:r>
              <a:rPr b="1" lang="fr-FR" sz="3000" spc="-1" strike="noStrike">
                <a:solidFill>
                  <a:srgbClr val="ff0000"/>
                </a:solidFill>
                <a:latin typeface="Calibri"/>
              </a:rPr>
              <a:t>don/réciprocité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Marcel MAUSS, Pierre CLASTRES, David GRAEBER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Religions parfois égalitaristes ou partageuses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 pratiques de </a:t>
            </a:r>
            <a:r>
              <a:rPr b="1" lang="fr-FR" sz="3000" spc="-1" strike="noStrike">
                <a:solidFill>
                  <a:srgbClr val="ff0000"/>
                </a:solidFill>
                <a:latin typeface="Calibri"/>
              </a:rPr>
              <a:t>charité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, «</a:t>
            </a:r>
            <a:r>
              <a:rPr b="0" i="1" lang="fr-FR" sz="3000" spc="-1" strike="noStrike">
                <a:solidFill>
                  <a:srgbClr val="000000"/>
                </a:solidFill>
                <a:latin typeface="Calibri"/>
              </a:rPr>
              <a:t>devoir judaïque de </a:t>
            </a:r>
            <a:r>
              <a:rPr b="1" i="1" lang="fr-FR" sz="3000" spc="-1" strike="noStrike">
                <a:solidFill>
                  <a:srgbClr val="ff0000"/>
                </a:solidFill>
                <a:latin typeface="Calibri"/>
              </a:rPr>
              <a:t>solidarité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» (Arturo SCHWARZ), </a:t>
            </a:r>
            <a:r>
              <a:rPr b="1" lang="fr-FR" sz="3000" spc="-1" strike="noStrike">
                <a:solidFill>
                  <a:srgbClr val="ff0000"/>
                </a:solidFill>
                <a:latin typeface="Calibri"/>
              </a:rPr>
              <a:t>Zakat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un des piliers dans l'islam 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Cf. idéal des premiers chrétiens (</a:t>
            </a:r>
            <a:r>
              <a:rPr b="0" i="1" lang="fr-FR" sz="3000" spc="-1" strike="noStrike">
                <a:solidFill>
                  <a:srgbClr val="000000"/>
                </a:solidFill>
                <a:latin typeface="Calibri"/>
              </a:rPr>
              <a:t>Actes des Apôtres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Ac 4, 32-35, I° siècle : «</a:t>
            </a:r>
            <a:r>
              <a:rPr b="1" i="1" lang="fr-FR" sz="3000" spc="-1" strike="noStrike">
                <a:solidFill>
                  <a:srgbClr val="ff0000"/>
                </a:solidFill>
                <a:latin typeface="Calibri"/>
              </a:rPr>
              <a:t>chacun en recevait une part</a:t>
            </a:r>
            <a:r>
              <a:rPr b="1" lang="fr-FR" sz="3000" spc="-1" strike="noStrike">
                <a:solidFill>
                  <a:srgbClr val="ff0000"/>
                </a:solidFill>
                <a:latin typeface="Calibri"/>
              </a:rPr>
              <a:t> - de la vente des propriétés - </a:t>
            </a:r>
            <a:r>
              <a:rPr b="1" i="1" lang="fr-FR" sz="3000" spc="-1" strike="noStrike">
                <a:solidFill>
                  <a:srgbClr val="ff0000"/>
                </a:solidFill>
                <a:latin typeface="Calibri"/>
              </a:rPr>
              <a:t>selon ses besoins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»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Espace réservé de la date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Novembre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Espace réservé du pied de pag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Essai de synthè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046FE-BE8D-4894-8499-30CD5A6C24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ANCIENNETÉ DES IDÉES DE PARTAGE. 2/2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Calibri"/>
              </a:rPr>
              <a:t>Formes de mutuellisme ou de mutualité</a:t>
            </a: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 TRÈS ANCIENNES : familiales, communales (affouage), tribales, corporatives, religieuses (confréries) : </a:t>
            </a:r>
            <a:r>
              <a:rPr b="1" lang="fr-FR" sz="2700" spc="-1" strike="noStrike">
                <a:solidFill>
                  <a:srgbClr val="000000"/>
                </a:solidFill>
                <a:latin typeface="Calibri"/>
              </a:rPr>
              <a:t>amicales</a:t>
            </a: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fr-FR" sz="2700" spc="-1" strike="noStrike">
                <a:solidFill>
                  <a:srgbClr val="000000"/>
                </a:solidFill>
                <a:latin typeface="Calibri"/>
              </a:rPr>
              <a:t>sociétés de secours mutuel</a:t>
            </a: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fr-FR" sz="2700" spc="-1" strike="noStrike">
                <a:solidFill>
                  <a:srgbClr val="000000"/>
                </a:solidFill>
                <a:latin typeface="Calibri"/>
              </a:rPr>
              <a:t>chambres corporatives</a:t>
            </a: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,…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Calibri"/>
              </a:rPr>
              <a:t>Expansion du premier XIX°s. = SOCIALISME PREMIER, ROMANTIQUE OU «UTOPIQUE»</a:t>
            </a: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 foncièrement lié à l'idée d'</a:t>
            </a:r>
            <a:r>
              <a:rPr b="1" lang="fr-FR" sz="2700" spc="-1" strike="noStrike">
                <a:solidFill>
                  <a:srgbClr val="ff0000"/>
                </a:solidFill>
                <a:latin typeface="Calibri"/>
              </a:rPr>
              <a:t>association</a:t>
            </a: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 : GODWIN, OWEN, SAINT-SIMON, WEITLING, LEROUX, CABET…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 u="sng">
                <a:solidFill>
                  <a:srgbClr val="000000"/>
                </a:solidFill>
                <a:uFillTx/>
                <a:latin typeface="Calibri"/>
              </a:rPr>
              <a:t>Importance en FC </a:t>
            </a: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: FOURIER, PROUDHON, Jenny d’HÉRICOURT, CONSIDERANT, COURBET, Wladimir GAGNEUR, Ernest TARBOURIECH… </a:t>
            </a:r>
            <a:r>
              <a:rPr b="1" lang="fr-FR" sz="2700" spc="-1" strike="noStrike">
                <a:solidFill>
                  <a:srgbClr val="ff0000"/>
                </a:solidFill>
                <a:latin typeface="Calibri"/>
              </a:rPr>
              <a:t>Spécificité 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Espace réservé de la date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Novembre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Espace réservé du pied de pag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Essai de synthè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FA2FE-1B58-4E4F-A1FB-9504A1F985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ESSOR DE L’ENTRAIDE XVIII-XX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8360" y="1197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Développement : COMPAGNONNAGE, COOPÉRATION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(Rochdale 1844),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SYNDICALISME, ASSOCIATIONS MUTUALISTES, AMICALES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Cf. les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Time Stores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(années 1820) de Josiah WARREN (ancêtre des SEL ?) ou les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Banques du Peuple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(années 1840-50 pour la tentative proudhonienne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Cf. l'association fouriériste, phalange et phalanstère, déjà le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commerce ou l’artisanat </a:t>
            </a:r>
            <a:r>
              <a:rPr b="1" lang="fr-FR" sz="2000" spc="-1" strike="noStrike">
                <a:solidFill>
                  <a:srgbClr val="ff0000"/>
                </a:solidFill>
                <a:latin typeface="Calibri"/>
              </a:rPr>
              <a:t>équitable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du garantisme à l'harmonie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Cf. PROUDHON et son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mutuellisme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, sa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Justice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fr-FR" sz="2000" spc="-1" strike="noStrike">
                <a:solidFill>
                  <a:srgbClr val="ff0000"/>
                </a:solidFill>
                <a:latin typeface="Calibri"/>
              </a:rPr>
              <a:t>réciprocité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, son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fédéralis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Cf. KROPOTKINE et </a:t>
            </a:r>
            <a:r>
              <a:rPr b="1" lang="fr-FR" sz="2000" spc="-1" strike="noStrike">
                <a:solidFill>
                  <a:srgbClr val="ff0000"/>
                </a:solidFill>
                <a:latin typeface="Calibri"/>
              </a:rPr>
              <a:t>l'appui mutuel ou entraide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i="1" lang="fr-FR" sz="2000" spc="-1" strike="noStrike">
                <a:solidFill>
                  <a:srgbClr val="000000"/>
                </a:solidFill>
                <a:latin typeface="Calibri"/>
              </a:rPr>
              <a:t>Mutual Aid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190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1848 : essor de l'association ouvrière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mais pas seulement Cf. récent livre de RIOT-SARCE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depuis fin XIX°s. : EXTENSION :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COOPÉRATIVISME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COLLECTIVISME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(rétribution selon son 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travail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, «</a:t>
            </a: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selon leurs œuvres et capacité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» 1848) puis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COMMUNISME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(selon les 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besoins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Bourse du travail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: lieu d'autoformation, d'échanges, d'offres d'embauches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Fruitières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comtoises, une des bases du fouriérisme (Wladimir GAGNEUR, FOURIE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Fraternelles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: St Claude (20 établissements 16 localités), Valentigney, Besançon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Espace réservé de la date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Novembre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Espace réservé du pied de pag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Essai de synthè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8F792-27BF-462F-B8D6-B70276C858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MULTIPLICATION ET DIVERSIFICATION RÉCENTES :</a:t>
            </a: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 XX°-XXI° : 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Microtopies, Nowtopias, Utopies concrètes, Communautés intentionnelles, Expérimentations alternatives…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256500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Essor </a:t>
            </a:r>
            <a:r>
              <a:rPr b="0" lang="fr-FR" sz="2500" spc="-1" strike="noStrike" u="sng">
                <a:solidFill>
                  <a:srgbClr val="ff0000"/>
                </a:solidFill>
                <a:uFillTx/>
                <a:latin typeface="Calibri"/>
              </a:rPr>
              <a:t>formes nouvelles</a:t>
            </a:r>
            <a:r>
              <a:rPr b="0" lang="fr-FR" sz="25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fr-FR" sz="2500" spc="-1" strike="noStrike">
                <a:solidFill>
                  <a:srgbClr val="000000"/>
                </a:solidFill>
                <a:latin typeface="Calibri"/>
              </a:rPr>
              <a:t>AMAP</a:t>
            </a: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fr-FR" sz="2500" spc="-1" strike="noStrike">
                <a:solidFill>
                  <a:srgbClr val="000000"/>
                </a:solidFill>
                <a:latin typeface="Calibri"/>
              </a:rPr>
              <a:t>SEL</a:t>
            </a: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fr-FR" sz="2500" spc="-1" strike="noStrike">
                <a:solidFill>
                  <a:srgbClr val="000000"/>
                </a:solidFill>
                <a:latin typeface="Calibri"/>
              </a:rPr>
              <a:t>WIKIPEDIA</a:t>
            </a: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fr-FR" sz="2500" spc="-1" strike="noStrike">
                <a:solidFill>
                  <a:srgbClr val="000000"/>
                </a:solidFill>
                <a:latin typeface="Calibri"/>
              </a:rPr>
              <a:t>garages coopératif</a:t>
            </a: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fr-FR" sz="2500" spc="-1" strike="noStrike">
                <a:solidFill>
                  <a:srgbClr val="000000"/>
                </a:solidFill>
                <a:latin typeface="Calibri"/>
              </a:rPr>
              <a:t>jardins collectifs, Fablabs, écovillages</a:t>
            </a: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MAIS reprise </a:t>
            </a:r>
            <a:r>
              <a:rPr b="0" lang="fr-FR" sz="2500" spc="-1" strike="noStrike" u="sng">
                <a:solidFill>
                  <a:srgbClr val="ff0000"/>
                </a:solidFill>
                <a:uFillTx/>
                <a:latin typeface="Calibri"/>
              </a:rPr>
              <a:t>idées plus anciennes </a:t>
            </a: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fr-FR" sz="2500" spc="-1" strike="noStrike">
                <a:solidFill>
                  <a:srgbClr val="000000"/>
                </a:solidFill>
                <a:latin typeface="Calibri"/>
              </a:rPr>
              <a:t>coopératives</a:t>
            </a: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fr-FR" sz="2500" spc="-1" strike="noStrike">
                <a:solidFill>
                  <a:srgbClr val="000000"/>
                </a:solidFill>
                <a:latin typeface="Calibri"/>
              </a:rPr>
              <a:t>autogestions</a:t>
            </a: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fr-FR" sz="2500" spc="-1" strike="noStrike">
                <a:solidFill>
                  <a:srgbClr val="000000"/>
                </a:solidFill>
                <a:latin typeface="Calibri"/>
              </a:rPr>
              <a:t>LIP</a:t>
            </a: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, usines récupérées </a:t>
            </a:r>
            <a:r>
              <a:rPr b="1" lang="fr-FR" sz="2500" spc="-1" strike="noStrike">
                <a:solidFill>
                  <a:srgbClr val="000000"/>
                </a:solidFill>
                <a:latin typeface="Calibri"/>
              </a:rPr>
              <a:t>argentines</a:t>
            </a: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, dispensaires </a:t>
            </a:r>
            <a:r>
              <a:rPr b="1" lang="fr-FR" sz="2500" spc="-1" strike="noStrike">
                <a:solidFill>
                  <a:srgbClr val="000000"/>
                </a:solidFill>
                <a:latin typeface="Calibri"/>
              </a:rPr>
              <a:t>grecs</a:t>
            </a: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, coopérative du </a:t>
            </a:r>
            <a:r>
              <a:rPr b="1" lang="fr-FR" sz="2500" spc="-1" strike="noStrike">
                <a:solidFill>
                  <a:srgbClr val="000000"/>
                </a:solidFill>
                <a:latin typeface="Calibri"/>
              </a:rPr>
              <a:t>Chiapas</a:t>
            </a: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...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Développement du phénomène du </a:t>
            </a:r>
            <a:r>
              <a:rPr b="1" lang="fr-FR" sz="2500" spc="-1" strike="noStrike">
                <a:solidFill>
                  <a:srgbClr val="000000"/>
                </a:solidFill>
                <a:latin typeface="Calibri"/>
              </a:rPr>
              <a:t>DIY et des autoxxx</a:t>
            </a: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, ce qui n'est pas forcément collectif, mais qui est souvent anti-marchand et favorable à l'autonomie : </a:t>
            </a:r>
            <a:r>
              <a:rPr b="1" lang="fr-FR" sz="2500" spc="-1" strike="noStrike">
                <a:solidFill>
                  <a:srgbClr val="000000"/>
                </a:solidFill>
                <a:latin typeface="Calibri"/>
              </a:rPr>
              <a:t>auto-constructions, autoéditions, autoproductions </a:t>
            </a: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artisanales ou familiales…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MAIS </a:t>
            </a:r>
            <a:r>
              <a:rPr b="0" lang="fr-FR" sz="2500" spc="-1" strike="noStrike" u="sng">
                <a:solidFill>
                  <a:srgbClr val="000000"/>
                </a:solidFill>
                <a:uFillTx/>
                <a:latin typeface="Calibri"/>
              </a:rPr>
              <a:t>grande variété </a:t>
            </a: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: ESS, économie souterraine, informelle, militante, non marchande, naturelle…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Espace réservé de la date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Novembre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Espace réservé du pied de pag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Essai de synthè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31B31-C1E1-40A3-B905-871F0776A9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NÉBULEUSE PEU CLAIRE. 1/2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95280" y="170028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Calibri"/>
              </a:rPr>
              <a:t>Marchande ou non marchande </a:t>
            </a: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- avec ou sans monnaie traditionnelle, complémentaire, numérique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Calibri"/>
              </a:rPr>
              <a:t>Capitaliste ou non </a:t>
            </a: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0000"/>
                </a:solidFill>
                <a:uFillTx/>
                <a:latin typeface="Calibri"/>
              </a:rPr>
              <a:t>Rappel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: déjà en analysant les associations de 1848 on distinguait «</a:t>
            </a: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organisation ouvrière contre le capital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» des «</a:t>
            </a: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associations du travail avec le «capital» et celles-ci plus ou moins contrôlées par l'État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Calibri"/>
              </a:rPr>
              <a:t>Productiviste ou décroissante ? </a:t>
            </a:r>
            <a:r>
              <a:rPr b="1" lang="fr-FR" sz="2700" spc="-1" strike="noStrike">
                <a:solidFill>
                  <a:srgbClr val="ff0000"/>
                </a:solidFill>
                <a:latin typeface="Calibri"/>
              </a:rPr>
              <a:t>Quel paradigme 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Calibri"/>
              </a:rPr>
              <a:t>Gratuite ou rétribuée ? </a:t>
            </a:r>
            <a:r>
              <a:rPr b="1" lang="fr-FR" sz="2700" spc="-1" strike="noStrike">
                <a:solidFill>
                  <a:srgbClr val="ff0000"/>
                </a:solidFill>
                <a:latin typeface="Calibri"/>
              </a:rPr>
              <a:t>Bénévolat vs Salaria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Calibri"/>
              </a:rPr>
              <a:t>Institutionnelle</a:t>
            </a: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 (Scop, kibbutz, SA…) ou «</a:t>
            </a:r>
            <a:r>
              <a:rPr b="1" lang="fr-FR" sz="2700" spc="-1" strike="noStrike">
                <a:solidFill>
                  <a:srgbClr val="000000"/>
                </a:solidFill>
                <a:latin typeface="Calibri"/>
              </a:rPr>
              <a:t>sauvage»</a:t>
            </a: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 (communauté, squat, usine récupérée, zone libérée…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Donc dans le système, ses marges, hors et contre lui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Or </a:t>
            </a:r>
            <a:r>
              <a:rPr b="1" lang="fr-FR" sz="2700" spc="-1" strike="noStrike">
                <a:solidFill>
                  <a:srgbClr val="000000"/>
                </a:solidFill>
                <a:latin typeface="Calibri"/>
              </a:rPr>
              <a:t>FOURIER</a:t>
            </a: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 prônait </a:t>
            </a:r>
            <a:r>
              <a:rPr b="1" lang="fr-FR" sz="2700" spc="-1" strike="noStrike">
                <a:solidFill>
                  <a:srgbClr val="ff0000"/>
                </a:solidFill>
                <a:latin typeface="Calibri"/>
              </a:rPr>
              <a:t>l'écart absolu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et le </a:t>
            </a:r>
            <a:r>
              <a:rPr b="1" lang="fr-FR" sz="2700" spc="-1" strike="noStrike">
                <a:solidFill>
                  <a:srgbClr val="ff0000"/>
                </a:solidFill>
                <a:latin typeface="Calibri"/>
              </a:rPr>
              <a:t>doute absolu </a:t>
            </a:r>
            <a:r>
              <a:rPr b="1" lang="fr-FR" sz="2700" spc="-1" strike="noStrike">
                <a:solidFill>
                  <a:srgbClr val="000000"/>
                </a:solidFill>
                <a:latin typeface="Calibri"/>
              </a:rPr>
              <a:t>!!!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Espace réservé de la date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Novembre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Espace réservé du pied de pag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Essai de synthè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28D4E-E263-43C4-8267-FE0EA371F6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NÉBULEUSE PEU CLAIRE. 2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100" spc="-1" strike="noStrike">
                <a:solidFill>
                  <a:srgbClr val="000000"/>
                </a:solidFill>
                <a:latin typeface="Calibri"/>
              </a:rPr>
              <a:t>Étatique ou autogérée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Cf. cas des </a:t>
            </a:r>
            <a:r>
              <a:rPr b="1" lang="fr-FR" sz="2700" spc="-1" strike="noStrike">
                <a:solidFill>
                  <a:srgbClr val="000000"/>
                </a:solidFill>
                <a:latin typeface="Calibri"/>
              </a:rPr>
              <a:t>usines récupérées en Argentine</a:t>
            </a: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 : expropriation, occupation sauvage, gestion autonome et évolution vers l'institutionnalisation et la couverture étatique pour dur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Calibri"/>
              </a:rPr>
              <a:t>Ouverte ou fermée </a:t>
            </a: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: producteurs - consommateurs, clients ou usagers-citoyens 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Calibri"/>
              </a:rPr>
              <a:t>Locale ou globale ?</a:t>
            </a:r>
            <a:br>
              <a:rPr sz="2700"/>
            </a:b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Cf. </a:t>
            </a:r>
            <a:r>
              <a:rPr b="1" lang="es-ES" sz="2700" spc="-1" strike="noStrike">
                <a:solidFill>
                  <a:srgbClr val="000000"/>
                </a:solidFill>
                <a:latin typeface="Calibri"/>
              </a:rPr>
              <a:t>Corporación MONDRAGÓN (MCC-MONDRAGON Cooperative Corp) </a:t>
            </a: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depuis années 1950. Plus de 250 sociétés, près de 90 000 emplois…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Espace réservé de la date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Novembre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Espace réservé du pied de pag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Essai de synthè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5996F-84B6-4B81-9C52-F8E72ABAB1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Diversité-Ambigüité des Instituts de coopération sanitaire de proximité</a:t>
            </a:r>
            <a:br>
              <a:rPr sz="4000"/>
            </a:b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MAISON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 de santé </a:t>
            </a: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privée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 - </a:t>
            </a: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CENTRE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 de santé </a:t>
            </a: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public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POINTS COMMUNS 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: localisation, entraide, partage, collaboration éventuelle, convivialité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MAIS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importantes différences 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3000"/>
            </a:b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- ni les mêmes statuts (salariat des centres)</a:t>
            </a:r>
            <a:br>
              <a:rPr sz="3000"/>
            </a:b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- ni les mêmes obligations (refus des dépassements et des bénéfices, tiers payant)</a:t>
            </a:r>
            <a:br>
              <a:rPr sz="3000"/>
            </a:b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- ni les mêmes valeurs (intérêt général et ouverture aux usager-ère-s)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Espace réservé de la date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Novembre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Espace réservé du pied de pag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Essai de synthè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65DA3-BE0F-4EE8-86A1-7822D9072D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D'OÙ DES INTERPRÉTATIONS PARADOXALES OU HOSTIL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 u="sng">
                <a:solidFill>
                  <a:srgbClr val="000000"/>
                </a:solidFill>
                <a:uFillTx/>
                <a:latin typeface="Calibri"/>
              </a:rPr>
              <a:t>Rappel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: 1879 Congrès socialiste français : les coopératives = microsociétés pour privilégiés, inadaptées pour l'émancipation sociale globa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 u="sng">
                <a:solidFill>
                  <a:srgbClr val="000000"/>
                </a:solidFill>
                <a:uFillTx/>
                <a:latin typeface="Calibri"/>
              </a:rPr>
              <a:t>En Allemagne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, le programme de Gotha 1875 est lui pour le développement coopératif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 u="sng">
                <a:solidFill>
                  <a:srgbClr val="000000"/>
                </a:solidFill>
                <a:uFillTx/>
                <a:latin typeface="Calibri"/>
              </a:rPr>
              <a:t>Vis-à-vis des coopératives, milieux libres, colonies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Condamnation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de la fuite, du repli, de la dispersion militante, du choix individualiste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Acceptation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de la gymnastique révolutionnaire, de l'expérimentation, de l'apprentissage de la gestion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Espace réservé de la date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Novembre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Espace réservé du pied de pag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Essai de synthè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E796F-2333-40B0-AF26-ED47E69C1D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8T16:57:38Z</dcterms:created>
  <dc:creator>Michel ANTONY</dc:creator>
  <dc:description/>
  <dc:language>en-US</dc:language>
  <cp:lastModifiedBy>Michel ANTONY</cp:lastModifiedBy>
  <dcterms:modified xsi:type="dcterms:W3CDTF">2016-11-10T08:44:34Z</dcterms:modified>
  <cp:revision>16</cp:revision>
  <dc:subject/>
  <dc:title>DU PARTAGE… À LA SOCIÉTÉ COLLABORATIVE. UNE UTOPIE MODERNE ?</dc:title>
</cp:coreProperties>
</file>