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F02-2226-4B55-A9BA-408397D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6F8-DF3B-4FDA-9C79-B3F3EF80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F19-EE59-41CC-896A-F8937233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ABE-0744-43E3-A2D6-623F4D6A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B09-BF27-4749-A13E-B686FD5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2A3-9A21-4791-9746-EDDF87FC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671-5E39-4CCA-AF8F-9A9EFE28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8CF-A3C8-428B-BDB1-E021FFFB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E6D-7807-4EF8-BEC1-66ACB98E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653-7FA2-489C-83E7-6BE84E97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571-F23E-41DC-B39B-924EBB3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C96-35CE-4A6E-944F-1918DD5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7EE4-9766-40EA-A252-0D8AF4B31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23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U PARTAGE… À LA SOCIÉTÉ COLLABORATIVE. UNE UTOPIE MODERN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a452a"/>
                </a:solidFill>
                <a:latin typeface="Calibri"/>
              </a:rPr>
              <a:t>QUELQUES REMARQUES POUR UNE CONCLUSION PROVIS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900000" y="5661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ichel ANTONY – michel.antony@wanadoo.fr  - http://www.acratie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space réservé de la dat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214-7232-40F2-A3B4-EAACF7872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r WWW.ACRATIE.E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topistes et utopies comtois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UtopiesFC.ht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finitions des utopies et des socialism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1-DEFIN.DO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périmentations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icro-communauté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5P-A-MICRO.DO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périmentations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topédagogies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5P-B-PEDA.DO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uples premiers, Auto-constructions, Interne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4TRACES.DOC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chel ANTONY : https://fr.wikipedia.org/wiki/Michel_Anto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3B2-4F9A-476E-800D-81EF5AAE0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ANCIENNETÉ DES IDÉES DE PARTAGE. 1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Sociétés premièr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don/réciproc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Marcel MAUSS, Pierre CLASTRES, David GRAEBER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Religions parfois égalitaristes ou partageus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pratiques d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char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«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evoir judaïque de </a:t>
            </a:r>
            <a:r>
              <a:rPr b="1" i="1" lang="fr-FR" sz="3000" spc="-1" strike="noStrike">
                <a:solidFill>
                  <a:srgbClr val="ff0000"/>
                </a:solidFill>
                <a:latin typeface="Calibri"/>
              </a:rPr>
              <a:t>solidar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» (Arturo SCHWARZ),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Zaka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un des piliers dans l'islam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f. idéal des premiers chrétiens (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Actes des Apôtr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Ac 4, 32-35, I° siècle : «</a:t>
            </a:r>
            <a:r>
              <a:rPr b="1" i="1" lang="fr-FR" sz="3000" spc="-1" strike="noStrike">
                <a:solidFill>
                  <a:srgbClr val="ff0000"/>
                </a:solidFill>
                <a:latin typeface="Calibri"/>
              </a:rPr>
              <a:t>chacun en recevait une part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 - de la vente des propriétés - </a:t>
            </a:r>
            <a:r>
              <a:rPr b="1" i="1" lang="fr-FR" sz="3000" spc="-1" strike="noStrike">
                <a:solidFill>
                  <a:srgbClr val="ff0000"/>
                </a:solidFill>
                <a:latin typeface="Calibri"/>
              </a:rPr>
              <a:t>selon ses besoi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»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7118-973E-404F-A3B5-6F570DFE1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ANCIENNETÉ DES IDÉES DE PARTAGE. 2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Formes de mutuellisme ou de mutua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RÈS ANCIENNES : familiales, communales (affouage), tribales, corporatives, religieuses (confréries) :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amicales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sociétés de secours mutuel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chambres corporatives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…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Expansion du premier XIX°s. = SOCIALISME PREMIER, ROMANTIQUE OU «UTOPIQUE»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foncièrement lié à l'idée d'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association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: GODWIN, OWEN, SAINT-SIMON, WEITLING, LEROUX, CABET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Importance en FC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: FOURIER, PROUDHON, Jenny d’HÉRICOURT, CONSIDERANT, COURBET, Wladimir GAGNEUR, Ernest TARBOURIECH…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Spécificité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9608-73F5-4E2A-9682-BAB5694E9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SSOR DE L’ENTRAIDE XVIII-XX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197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veloppement : COMPAGNONNAGE, COOPÉRA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Rochdale 1844)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YNDICALISME, ASSOCIATIONS MUTUALISTES, AMICAL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ime Stor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nnées 1820) de Josiah WARREN (ancêtre des SEL ?) ou 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anques du Peupl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années 1840-50 pour la tentative proudhonienn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l'association fouriériste, phalange et phalanstère, déjà l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erce ou l’artisanat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équitabl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u garantisme à l'harmoni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PROUDHON et son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utuell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s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usti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réciproc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son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édéral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KROPOTKINE et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l'appui mutuel ou entrai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Mutual Aid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90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848 : essor de l'association ouvrièr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mais pas seulement Cf. récent livre de RIOT-SARC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puis fin XIX°s. : EXTENSION :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OPÉRATIV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LLECTIV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rétribution selon son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travai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«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elon leurs œuvres et capac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 1848) pui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UN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selon les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besoin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ourse du travail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lieu d'autoformation, d'échanges, d'offres d'embauch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ruitièr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omtoises, une des bases du fouriérisme (Wladimir GAGNEUR, FOURI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raternell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St Claude (20 établissements 16 localités), Valentigney, Besanç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16C-2B96-4507-A4DD-D9404133A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ULTIPLICATION ET DIVERSIFICATION RÉCENTES :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XX°-XXI° :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icrotopies, Nowtopias, Utopies concrètes, Communautés intentionnelles, Expérimentations alternatives…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56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sor </a:t>
            </a:r>
            <a:r>
              <a:rPr b="0" lang="fr-FR" sz="2500" spc="-1" strike="noStrike" u="sng">
                <a:solidFill>
                  <a:srgbClr val="ff0000"/>
                </a:solidFill>
                <a:uFillTx/>
                <a:latin typeface="Calibri"/>
              </a:rPr>
              <a:t>formes nouvelles</a:t>
            </a:r>
            <a:r>
              <a:rPr b="0" lang="fr-FR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MAP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SEL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WIKIPEDIA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garages coopératif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jardins collectifs, Fablabs, écovillage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AIS reprise </a:t>
            </a:r>
            <a:r>
              <a:rPr b="0" lang="fr-FR" sz="2500" spc="-1" strike="noStrike" u="sng">
                <a:solidFill>
                  <a:srgbClr val="ff0000"/>
                </a:solidFill>
                <a:uFillTx/>
                <a:latin typeface="Calibri"/>
              </a:rPr>
              <a:t>idées plus anciennes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coopérative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utogestion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IP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usines récupérées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rgentine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dispensaires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grec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coopérative du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Chiapa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Développement du phénomène du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DIY et des autoxxx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ce qui n'est pas forcément collectif, mais qui est souvent anti-marchand et favorable à l'autonomie :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uto-constructions, autoéditions, autoproductions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artisanales ou familiales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AIS </a:t>
            </a: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grande variété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: ESS, économie souterraine, informelle, militante, non marchande, naturelle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A6FC-741B-481E-9416-894E4B21E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NÉBULEUSE PEU CLAIRE. 1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Marchande ou non marchande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- avec ou sans monnaie traditionnelle, complémentaire, numériqu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Capitaliste ou non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Rappe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déjà en analysant les associations de 1848 on distinguait «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organisation ouvrière contre le capita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 des «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ociations du travail avec le «capital» et celles-ci plus ou moins contrôlées par l'Éta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Productiviste ou décroissante ?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Quel paradigme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Gratuite ou rétribuée ?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Bénévolat vs Salari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Institutionnell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(Scop, kibbutz, SA…) ou «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sauvage»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(communauté, squat, usine récupérée, zone libérée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onc dans le système, ses marges, hors et contre lui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FOURI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prônait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l'écart absolu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le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doute absolu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!!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EB1D-156B-4A75-A18E-0758D20AB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NÉBULEUSE PEU CLAIRE.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Calibri"/>
              </a:rPr>
              <a:t>Étatique ou autogérée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f. cas des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sines récupérées en Argentin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: expropriation, occupation sauvage, gestion autonome et évolution vers l'institutionnalisation et la couverture étatique pour dur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Ouverte ou fermée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: producteurs - consommateurs, clients ou usagers-citoyen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ocale ou globale ?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f. </a:t>
            </a: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Corporación MONDRAGÓN (MCC-MONDRAGON Cooperative Corp)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puis années 1950. Plus de 250 sociétés, près de 90 000 emplois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3FAC-08FF-4F53-967D-497AD6CA9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iversité-Ambigüité des Instituts de coopération sanitaire de proximité</a:t>
            </a:r>
            <a:br>
              <a:rPr sz="4000"/>
            </a:b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MAISON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de santé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privée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ENTRE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de santé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public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OINTS COMMU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ocalisation, entraide, partage, collaboration éventuelle, convivialité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AI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mportantes différenc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ni les mêmes statuts (salariat des centres)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ni les mêmes obligations (refus des dépassements et des bénéfices, tiers payant)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ni les mêmes valeurs (intérêt général et ouverture aux usager-ère-s)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2C04-A10F-4350-8001-32EF29491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'OÙ DES INTERPRÉTATIONS PARADOXALES OU HOST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ppel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1879 Congrès socialiste français : les coopératives = microsociétés pour privilégiés, inadaptées pour l'émancipation sociale glob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En Allemagn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le programme de Gotha 1875 est lui pour le développement coopératif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Vis-à-vis des coopératives, milieux libres, coloni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ndamn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la fuite, du repli, de la dispersion militante, du choix individualist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Accept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la gymnastique révolutionnaire, de l'expérimentation, de l'apprentissage de la gestio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B68B-D4AA-444C-9888-6328136F8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16:57:38Z</dcterms:created>
  <dc:creator>Michel ANTONY</dc:creator>
  <dc:description/>
  <dc:language>en-US</dc:language>
  <cp:lastModifiedBy>Michel ANTONY</cp:lastModifiedBy>
  <dcterms:modified xsi:type="dcterms:W3CDTF">2016-11-10T08:44:34Z</dcterms:modified>
  <cp:revision>16</cp:revision>
  <dc:subject/>
  <dc:title>DU PARTAGE… À LA SOCIÉTÉ COLLABORATIVE. UNE UTOPIE MODERNE ?</dc:title>
</cp:coreProperties>
</file>