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E836-493F-40A3-A405-A1D78F09A0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803-BD5C-4A3F-B4F8-D68247129D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7B3-5A29-449C-8D53-44DA7339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2F8-40A6-4BDE-9ED0-07FC5C3F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BEE-16DB-4DAB-B12E-96E846E8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70F-D3C5-4F17-95C0-EC9334B3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E8D-CD7C-4876-8133-713024E1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D79-0161-4506-98A7-8C8EF8B4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367-2CB1-4D04-BDD1-C30B533E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63A-DAE0-4CF1-BA0B-0C5DE2A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11C-E9A2-48E2-89BF-2EC41E9B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25B-4C8E-4FE9-B8AB-7542AAF0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EE9-466D-4285-A190-5E6BF139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D2C-4068-482F-8760-B75A3F9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BCB1-6BBA-41A7-8264-A517B452A59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0309-C453-4B81-B4B9-719C8F2C4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364464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UTOPIES ET ALTERNATIV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5" descr="Fourier.jpeg"/>
          <p:cNvPicPr/>
          <p:nvPr/>
        </p:nvPicPr>
        <p:blipFill>
          <a:blip r:embed="rId1"/>
          <a:stretch/>
        </p:blipFill>
        <p:spPr>
          <a:xfrm>
            <a:off x="324000" y="189000"/>
            <a:ext cx="2057400" cy="221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fficher l'image d'origine"/>
          <p:cNvPicPr/>
          <p:nvPr/>
        </p:nvPicPr>
        <p:blipFill>
          <a:blip r:embed="rId2"/>
          <a:srcRect l="8918" t="0" r="7644" b="25565"/>
          <a:stretch/>
        </p:blipFill>
        <p:spPr>
          <a:xfrm>
            <a:off x="6156360" y="333360"/>
            <a:ext cx="207324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 9" descr="Considerant.jpeg"/>
          <p:cNvPicPr/>
          <p:nvPr/>
        </p:nvPicPr>
        <p:blipFill>
          <a:blip r:embed="rId3"/>
          <a:stretch/>
        </p:blipFill>
        <p:spPr>
          <a:xfrm>
            <a:off x="3780000" y="4797360"/>
            <a:ext cx="1504800" cy="15526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age 11" descr="Jenny.jpeg"/>
          <p:cNvPicPr/>
          <p:nvPr/>
        </p:nvPicPr>
        <p:blipFill>
          <a:blip r:embed="rId4"/>
          <a:stretch/>
        </p:blipFill>
        <p:spPr>
          <a:xfrm>
            <a:off x="395280" y="4724280"/>
            <a:ext cx="151452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Image 12" descr="Syamour.jpeg"/>
          <p:cNvPicPr/>
          <p:nvPr/>
        </p:nvPicPr>
        <p:blipFill>
          <a:blip r:embed="rId5"/>
          <a:stretch/>
        </p:blipFill>
        <p:spPr>
          <a:xfrm>
            <a:off x="3419640" y="189000"/>
            <a:ext cx="1657080" cy="252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Résultat de recherche d'images pour &quot;gustave courbet&quot;"/>
          <p:cNvPicPr/>
          <p:nvPr/>
        </p:nvPicPr>
        <p:blipFill>
          <a:blip r:embed="rId6"/>
          <a:stretch/>
        </p:blipFill>
        <p:spPr>
          <a:xfrm>
            <a:off x="6804000" y="4221000"/>
            <a:ext cx="1857240" cy="2467080"/>
          </a:xfrm>
          <a:prstGeom prst="rect">
            <a:avLst/>
          </a:prstGeom>
          <a:ln w="0">
            <a:noFill/>
          </a:ln>
        </p:spPr>
      </p:pic>
      <p:sp>
        <p:nvSpPr>
          <p:cNvPr id="59" name="Espace réservé du pied de page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ce réservé du numéro de diapositive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BEBF-9D53-4401-B120-A6E84286B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"/>
          <p:cNvSpPr/>
          <p:nvPr/>
        </p:nvSpPr>
        <p:spPr>
          <a:xfrm>
            <a:off x="468360" y="549360"/>
            <a:ext cx="835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Mais maintien voire reprise des utopies autoritaires et exclusivistes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notamment religieuse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État islamique et utopie de l'Islam des origines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Poussée des sectes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Utopies nationalistes, régionalistes et/ou communautaristes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 Communautés fermées, élitistes, ploutocratiques, criminelles : Davos, Sun Cities, Mafi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Utopie-concept parfois discuté mais réhabilité,</a:t>
            </a:r>
            <a:br>
              <a:rPr sz="2400"/>
            </a:b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UTOPIES-ALTERNATIVES multipliées et valorisées</a:t>
            </a:r>
            <a:br>
              <a:rPr sz="24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f. livre de Bénédicte MANIER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n million de révolutions tranquil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201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4"/>
          <p:cNvSpPr/>
          <p:nvPr/>
        </p:nvSpPr>
        <p:spPr>
          <a:xfrm>
            <a:off x="684360" y="5084640"/>
            <a:ext cx="813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ichel.ANTONY@wanadoo.fr - http://www.acratie.eu/ - </a:t>
            </a:r>
            <a:fld id="{C4B5405F-6026-4030-9F1A-2396D20BE474}" type="datetime">
              <a:rPr b="0" lang="fr-FR" sz="16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ttps://fr.wikipedia.org/wiki/Michel_Anton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Indications bibliographiques : http://www.acratie.eu/FTPUTOP/UTOPBIBL.D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pprofondissement des thèmes évoqués : http://www.acratie.eu/FTPUTOP/U1-DEFIN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topies et socialismes comtois : http://www.acratie.eu/UtopiesFC.ht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pied de pag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28A5-680B-4BC8-BC34-A6B6542D4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Une Comté propice aux utopies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autonomie et particularité historique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Franche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) régionale illusoire mais souvent avancé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forte implication du socialisme premier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(préféré à socialisme utopique) Charles FOURIER, Jenny d'HÉRICOURT et Pierre Joseph PROUDHON à Besançon, Victor CONSIDERANT à Salins, Gustave COURBET à Ornans, l'auteure Marie-Louise GAGNEUR et sa fille la célèbre sculpteure Marguerite Louise Henriette GAGNEUR dite SYAMOU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plus tard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Ernest TARBOURIECH dans la région de Saint-Claude (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a Cité futu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Essai d'une utopie scientifiqu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,  Lucien BARBEDETTE à Luxeuil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traditions populaires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droits communaux (affouages), Fruitières jurassiennes, Fraternelles de Saint Claude ou de Valentigney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syndicalisme révolutionnaire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bien implanté au début du XX°s. avec Université Populaire et Bourses du travai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architecture et urbanisme + ou - utopiques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Claude-Nicolas LEDOUX, LE CORBUSIER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expériences autogestionnaires plus récentes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fr-FR" sz="1700" spc="-1" strike="noStrike">
                <a:solidFill>
                  <a:srgbClr val="000000"/>
                </a:solidFill>
                <a:latin typeface="Calibri"/>
              </a:rPr>
              <a:t>Communauté de Travail du « Bélier »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 années 1940-50 liée liée au mouvement de Marcel BARBU (1907-1984) : 1944 coopérative de production des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BOI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tiers de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MON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tres du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DAU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phiné (d’où son nom de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Communauté BOIMONDAU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 BMD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) ;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LIP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 ;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L'ÉPÉE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 de Sainte-Suzanne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700" spc="-1" strike="noStrike" u="sng">
                <a:solidFill>
                  <a:srgbClr val="558ed5"/>
                </a:solidFill>
                <a:uFillTx/>
                <a:latin typeface="Calibri"/>
              </a:rPr>
              <a:t>mouvements culturels forts 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CCPPO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, groupes </a:t>
            </a:r>
            <a:r>
              <a:rPr b="1" lang="fr-FR" sz="1700" spc="-1" strike="noStrike">
                <a:solidFill>
                  <a:srgbClr val="000000"/>
                </a:solidFill>
                <a:latin typeface="Calibri"/>
              </a:rPr>
              <a:t>MEDVEDKINE</a:t>
            </a:r>
            <a:r>
              <a:rPr b="0" lang="fr-FR" sz="1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9C82-5CD3-46F6-9238-A33F02828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 8" descr="Ronchamp.jpeg"/>
          <p:cNvPicPr/>
          <p:nvPr/>
        </p:nvPicPr>
        <p:blipFill>
          <a:blip r:embed="rId1"/>
          <a:stretch/>
        </p:blipFill>
        <p:spPr>
          <a:xfrm>
            <a:off x="4572000" y="2349360"/>
            <a:ext cx="437184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Résultat de recherche d'images pour &quot;salines royales d'arc et senans&quot;"/>
          <p:cNvPicPr/>
          <p:nvPr/>
        </p:nvPicPr>
        <p:blipFill>
          <a:blip r:embed="rId2"/>
          <a:stretch/>
        </p:blipFill>
        <p:spPr>
          <a:xfrm>
            <a:off x="179280" y="333360"/>
            <a:ext cx="4340160" cy="2951280"/>
          </a:xfrm>
          <a:prstGeom prst="rect">
            <a:avLst/>
          </a:prstGeom>
          <a:ln w="0">
            <a:noFill/>
          </a:ln>
        </p:spPr>
      </p:pic>
      <p:sp>
        <p:nvSpPr>
          <p:cNvPr id="70" name="Espace réservé du pied de page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EA79-9177-49E0-ADDF-77D11EE25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mage 8" descr="Syam.jpeg"/>
          <p:cNvPicPr/>
          <p:nvPr/>
        </p:nvPicPr>
        <p:blipFill>
          <a:blip r:embed="rId3"/>
          <a:stretch/>
        </p:blipFill>
        <p:spPr>
          <a:xfrm>
            <a:off x="1042920" y="3933720"/>
            <a:ext cx="2449440" cy="183528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9"/>
          <p:cNvSpPr/>
          <p:nvPr/>
        </p:nvSpPr>
        <p:spPr>
          <a:xfrm>
            <a:off x="468360" y="342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c et Senans – Salines roy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2"/>
          <p:cNvSpPr/>
          <p:nvPr/>
        </p:nvSpPr>
        <p:spPr>
          <a:xfrm>
            <a:off x="4500720" y="5229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pelle de Ronchamp – Le Corbu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3"/>
          <p:cNvSpPr/>
          <p:nvPr/>
        </p:nvSpPr>
        <p:spPr>
          <a:xfrm>
            <a:off x="395280" y="6093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son palladienne de Sy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I. UN MOT «RÉCENT» d’il y a juste 500 ANS : Thomas MORE </a:t>
            </a:r>
            <a:r>
              <a:rPr b="1" i="1" lang="fr-FR" sz="4000" spc="-1" strike="noStrike">
                <a:solidFill>
                  <a:srgbClr val="ff0000"/>
                </a:solidFill>
                <a:latin typeface="Calibri"/>
              </a:rPr>
              <a:t>L'utopie</a:t>
            </a: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 15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nusquama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= nulle part, première appellation chez MOR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création (ou reconnaissance ?)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d'un genre littéraire et politique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mot générique ou commun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ès le XVII°, mais l'adjectif utopique arrive une décennie après l'ouvrage de MORE. Le terme francisé «</a:t>
            </a:r>
            <a:r>
              <a:rPr b="0" i="1" lang="fr-FR" sz="2100" spc="-1" strike="noStrike">
                <a:solidFill>
                  <a:srgbClr val="000000"/>
                </a:solidFill>
                <a:latin typeface="Calibri"/>
              </a:rPr>
              <a:t>utop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» se trouve déjà chez RABELAIS (1532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 u="sng">
                <a:solidFill>
                  <a:srgbClr val="000000"/>
                </a:solidFill>
                <a:uFillTx/>
                <a:latin typeface="Calibri"/>
              </a:rPr>
              <a:t>Triple aspect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UTOPIE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(ou A-topie) = sans lie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EUTOP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Eudémoni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fr-FR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pourtant «</a:t>
            </a:r>
            <a:r>
              <a:rPr b="0" i="1" lang="fr-FR" sz="2100" spc="-1" strike="noStrike">
                <a:solidFill>
                  <a:srgbClr val="000000"/>
                </a:solidFill>
                <a:latin typeface="Calibri"/>
              </a:rPr>
              <a:t>le bonheur une idée neuve en Europe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» dit SAINT-JUST presque 3 siècles plus tard (1794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fr-FR" sz="2100" spc="-1" strike="noStrike">
                <a:solidFill>
                  <a:srgbClr val="558ed5"/>
                </a:solidFill>
                <a:latin typeface="Calibri"/>
              </a:rPr>
              <a:t>Dualisme</a:t>
            </a: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 de ce type d'œuvre : envers et endroit, enfer et paradis, dystopie et utopie, réalité à changer et projet ALTERNATIF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107D-1E1C-44F3-96AC-4380A9E7F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II. EN FAIT une HISTOIRE DE TOUT TEMPS ET EN TOUT LIEU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 u="sng">
                <a:solidFill>
                  <a:srgbClr val="558ed5"/>
                </a:solidFill>
                <a:uFillTx/>
                <a:latin typeface="Calibri"/>
              </a:rPr>
              <a:t>Écrits anciens</a:t>
            </a:r>
            <a:r>
              <a:rPr b="1" lang="fr-FR" sz="2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: HÉSIODE, Taoïsme, paradis perse, et surtout PLATON (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La République-De la justic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Les Lois-De la législation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mais aussi mythe de l'Atlantide :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Timée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 Critias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),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 u="sng">
                <a:solidFill>
                  <a:srgbClr val="558ed5"/>
                </a:solidFill>
                <a:uFillTx/>
                <a:latin typeface="Calibri"/>
              </a:rPr>
              <a:t>Pensées et mouvements hérétiques et forcément alternatifs</a:t>
            </a:r>
            <a:r>
              <a:rPr b="1" lang="fr-FR" sz="2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: dans toutes les aires culturelles donc aussi dans l'Islam : ébauche démocratique kharidjiste, «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communism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» kharmate, anti-dogmatisme moutazilite, aspirations libertaires des soufis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 u="sng">
                <a:solidFill>
                  <a:srgbClr val="558ed5"/>
                </a:solidFill>
                <a:uFillTx/>
                <a:latin typeface="Calibri"/>
              </a:rPr>
              <a:t>Mouvements collectifs anciens</a:t>
            </a:r>
            <a:r>
              <a:rPr b="1" lang="fr-FR" sz="23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: communautés, révoltes, «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révélations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» apocalyptiques, millénarismes ou chiliasmes, associations solidaires, compagnonnages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 u="sng">
                <a:solidFill>
                  <a:srgbClr val="558ed5"/>
                </a:solidFill>
                <a:uFillTx/>
                <a:latin typeface="Calibri"/>
              </a:rPr>
              <a:t>Civilisations premières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, acéphales, contre-l'État… Cf. l'anthropologie libertaire : Pierre KROPOTKINE, Marcel MAUSS, Pierre CLASTRES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La société contre l'État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1974 ; David GRAEBER </a:t>
            </a:r>
            <a:r>
              <a:rPr b="0" i="1" lang="fr-FR" sz="2300" spc="-1" strike="noStrike">
                <a:solidFill>
                  <a:srgbClr val="000000"/>
                </a:solidFill>
                <a:latin typeface="Calibri"/>
              </a:rPr>
              <a:t>Pour une Anthropologie anarchist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 20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 u="sng">
                <a:solidFill>
                  <a:srgbClr val="000000"/>
                </a:solidFill>
                <a:uFillTx/>
                <a:latin typeface="Calibri"/>
              </a:rPr>
              <a:t>Dès le XVIII° siècl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300" spc="-1" strike="noStrike">
                <a:solidFill>
                  <a:srgbClr val="558ed5"/>
                </a:solidFill>
                <a:latin typeface="Calibri"/>
              </a:rPr>
              <a:t>UTOPIE LIÉE AUX PREMIERS SOCIALISMES 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: associations, recherche de </a:t>
            </a: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l'eunomie</a:t>
            </a:r>
            <a:r>
              <a:rPr b="0" lang="fr-FR" sz="2300" spc="-1" strike="noStrike">
                <a:solidFill>
                  <a:srgbClr val="000000"/>
                </a:solidFill>
                <a:latin typeface="Calibri"/>
              </a:rPr>
              <a:t>… GODWIN - OWEN - FOURIER - WEITLING - LEROUX - PROUDHON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73B8-44B5-42C2-8951-8C10D351B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III. MOT PLURIEL ET POLYSÉM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3"/>
          <p:cNvSpPr/>
          <p:nvPr/>
        </p:nvSpPr>
        <p:spPr>
          <a:xfrm>
            <a:off x="250920" y="1052640"/>
            <a:ext cx="8713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III. 1- Autrefois sens PÉJORATIF ET/OU RÉDUCTE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-ILLUS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Invention farfelu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hait plus qu'une possibilité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phrase de MORE)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-DÉCONSIDÉRAT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s concurrents. Le marxisme, ses mensonges et ses ambiguïtés. ENGELS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Socialisme utopique-Socialisme scientifiqu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8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s TRANSCENDANT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sans intervention humai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RCADIES, PARADIS et ÂGE D'O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YTH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…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s l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imitivist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J. ZERZAN, R. VANEIGEM…) revendiquent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’EDE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mme société non dégradée et plus proche de la n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 (CLASSIQUE) FERMÉE, FIGÉE, GÉOMÉTRIQUE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… quasiment dystopique par son uniformité et par l'oppression généralis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UTOPIE TOTALITAIRE au XX° siècle ?  Bolchevisme-stalinisme, nazis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f. Pin YATHAY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'utopie meurtriè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1989 - François FURET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 passé d'une illusio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blème des </a:t>
            </a: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DYSTOPIES ET/OU CONTRE-UTOPI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Evgueni ZAMIATINE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Nous autr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920) - - Aldous HUXLEY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e meilleur des mond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93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George ORWELL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La ferme des animaux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945) et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1984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19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= œuvre libre, anticipatrice, dénonciatrice, de mise en g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C5A5-EF2D-4BFC-8C4D-BA95B4343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III. MOT PLURIEL ET POLYSÉM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oneTexte 3"/>
          <p:cNvSpPr/>
          <p:nvPr/>
        </p:nvSpPr>
        <p:spPr>
          <a:xfrm>
            <a:off x="108000" y="148428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III.2- Utopie POSITIVE et MOTEUR DU CHANG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= PROJET : DESCRIPTION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ittéraire, projet, programme, alternative, contre-société, nouvel imaginaire (CASTORIADIS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= RÊVER, PENSER, PRÉVOIR, ESPÉR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le propre de l'humanité et une chance pour son aven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= PULSION</a:t>
            </a:r>
            <a:r>
              <a:rPr b="0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forme d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talism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ositif et nécessa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Karl MANNHEIM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déologie &amp; Utopi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1929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rnst BLOCH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rincipe Espéranc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Das Prinzip Hoffnung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1954-1959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avant des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UTOPIES CONCRÈT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= multiplication des expérimentations et associations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alternativ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réponse à MORE ? espérance &gt;souha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2E42-4F1D-487A-9E1D-99EA8200C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oneTexte 1"/>
          <p:cNvSpPr/>
          <p:nvPr/>
        </p:nvSpPr>
        <p:spPr>
          <a:xfrm>
            <a:off x="684360" y="260280"/>
            <a:ext cx="7991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1800" spc="-1" strike="noStrike" u="sng">
                <a:solidFill>
                  <a:srgbClr val="558ed5"/>
                </a:solidFill>
                <a:uFillTx/>
                <a:latin typeface="Calibri"/>
              </a:rPr>
              <a:t>Utopie = EXPÉRIMENTATIONS &amp;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= ALTERNATIVES, LABORATOIRES, ESSAIS, COMMUNAUTÉS, PHALANG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MICROSOCIÉTÉS INTENTIONNELLES</a:t>
            </a:r>
            <a:r>
              <a:rPr b="0" lang="fr-FR" sz="1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 mouvements communautaires et autogestionnaires (LIP, Portugal, Argentine, Grèce…): communes, colonies, milieux libres, soviets, collectivités, collectifs, kibboutzim, coopératives et fraternelles, écotopies (CALLENBACH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Ecotopia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1975)… La Cécilia, La Comunidad del Sur, Milieux libres en Europe, Centres sociaux, Ateneos, Squa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ESSAIS D'AUTONOMIE ET D'AUTOGESTION</a:t>
            </a:r>
            <a:r>
              <a:rPr b="0" lang="fr-FR" sz="1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 coopératives, usines et services occupés, monnaies locales, jardins urbains, garages communautaires, SEL, AMAP, OADEL (Togo), fêtes et happening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1800" spc="-1" strike="noStrike" u="sng">
                <a:solidFill>
                  <a:srgbClr val="558ed5"/>
                </a:solidFill>
                <a:uFillTx/>
                <a:latin typeface="Calibri"/>
              </a:rPr>
              <a:t>NOUVEAUX MOUVEMENTS ALTERNA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altermondialistes,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Indignado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ccupy Wall Street, Balais citoyen, Nuit Debout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plus ou moins récupérés :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odemo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voir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yriza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n Grèce…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surtout latino-américains :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hiapa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Bolivie, Argentine, Brésil… Communes mexicaines, Collectifs de barrios boliviens, Récupérations d'entreprises et Autogestions argentines, récupération de terres et auto-organisations des Sans Terre brésilien… MAIS aussi ailleurs :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OJAVA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kurde par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nouveaux paradigm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: Raúl ZÍBECHI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Disperser le pouvoi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2007),  John HOLLOWAY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Changer le monde sans prendre le pouvoi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(200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Volonté post-fouriériste ? DOUTE ABSOLU et ÉCART ABSO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blème majeur des alternatives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: hors du système en place ou insérées dans les niches et les brèches de celui-ci, ou en situation de compromis (coopératives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ce réservé du pied de page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E21B-D5D8-43C1-AAED-F51CCE69A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324000" y="115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IV. UTOPIES &amp; ALTERNATIVES AUJOURD'HU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2"/>
          <p:cNvSpPr/>
          <p:nvPr/>
        </p:nvSpPr>
        <p:spPr>
          <a:xfrm>
            <a:off x="395280" y="836640"/>
            <a:ext cx="8497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Largement et résolument positive : </a:t>
            </a: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UTOPIE OUVERTE</a:t>
            </a: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 et/ou </a:t>
            </a:r>
            <a:r>
              <a:rPr b="1" lang="fr-FR" sz="2400" spc="-1" strike="noStrike" u="sng">
                <a:solidFill>
                  <a:srgbClr val="558ed5"/>
                </a:solidFill>
                <a:uFillTx/>
                <a:latin typeface="Calibri"/>
              </a:rPr>
              <a:t>LIBERTAIRE</a:t>
            </a:r>
            <a:r>
              <a:rPr b="1" lang="fr-FR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f. filiation libertair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ISTOPHANE, RABELAIS Thélème, «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Fais ce que veul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, SWIFT, FOURIER, DÉJACQUE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L'Humanisphè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1859, William MORRIS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News from Nowhe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1890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al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oncrè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deste,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agmatiqu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ragmatopi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Bolo'bolo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de P.M. 1983)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uver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évolutiv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horizonta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emblé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édéralist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éticulai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olidaire ou mutualiste ou collaborativ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a réalité comme dans le virtue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ivialité, réciproc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ci et maintena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Chris CARLSSON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Nowtopia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2008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ve la proximité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Cf. le municipalisme libertaire de BOOKCH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mpor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: hétérotopies (FOUCAULT 1986) et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TAZ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Hakim BEY (1° éd. française 1997) ou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ZAD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Zones À Défend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luriell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t globalemen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ber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Utopies et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9A7-1BE5-43B0-AEC8-EDF65B5D3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13:33Z</dcterms:created>
  <dc:creator>Michel ANTONY</dc:creator>
  <dc:description/>
  <dc:language>en-US</dc:language>
  <cp:lastModifiedBy>Michel ANTONY</cp:lastModifiedBy>
  <dcterms:modified xsi:type="dcterms:W3CDTF">2018-03-05T10:43:33Z</dcterms:modified>
  <cp:revision>27</cp:revision>
  <dc:subject/>
  <dc:title>UTOPIES ET ALTERNATIVES.</dc:title>
</cp:coreProperties>
</file>