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8F9D-4655-4D07-BB1B-2ACE206ADC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B710-138F-4BCC-A2C0-9C2BDC8AE2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DF5-FEE9-4FCA-B68A-694C851E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201-C7C0-4F6F-8638-AB204E69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204-49A5-440A-A99E-F190F3F5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F0B-E03E-4CA6-AAE1-7A70A3DD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0F1-7133-4D9D-8B7D-53DCCD47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373-9044-4738-B66C-AD49754A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0F0-9951-4459-BFE1-ED630E2A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5F5-3068-4825-A860-BD28E8B6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0E4-7A4E-48DF-B01D-5445CCEF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0F3-9F86-4D99-A04F-F2176E9F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465-ACC8-450F-8726-9376704D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FAE-4D64-4DA4-A134-246784FF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B1B8-E8FA-450B-B248-266E3A6FF1D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2215-17A6-48C7-8093-1BAA3513B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3933720"/>
            <a:ext cx="66214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UTOPIES ET ALTERNATIVES</a:t>
            </a:r>
            <a:br>
              <a:rPr sz="4000"/>
            </a:b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en Comté et ailleurs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 5" descr="Fourier.jpeg"/>
          <p:cNvPicPr/>
          <p:nvPr/>
        </p:nvPicPr>
        <p:blipFill>
          <a:blip r:embed="rId1"/>
          <a:stretch/>
        </p:blipFill>
        <p:spPr>
          <a:xfrm>
            <a:off x="324000" y="189000"/>
            <a:ext cx="2057400" cy="221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fficher l'image d'origine"/>
          <p:cNvPicPr/>
          <p:nvPr/>
        </p:nvPicPr>
        <p:blipFill>
          <a:blip r:embed="rId2"/>
          <a:srcRect l="8918" t="0" r="7644" b="25565"/>
          <a:stretch/>
        </p:blipFill>
        <p:spPr>
          <a:xfrm>
            <a:off x="4932360" y="260280"/>
            <a:ext cx="2073240" cy="23036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 9" descr="Considerant.jpeg"/>
          <p:cNvPicPr/>
          <p:nvPr/>
        </p:nvPicPr>
        <p:blipFill>
          <a:blip r:embed="rId3"/>
          <a:stretch/>
        </p:blipFill>
        <p:spPr>
          <a:xfrm>
            <a:off x="1835280" y="4365720"/>
            <a:ext cx="1504800" cy="15523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age 11" descr="Jenny.jpeg"/>
          <p:cNvPicPr/>
          <p:nvPr/>
        </p:nvPicPr>
        <p:blipFill>
          <a:blip r:embed="rId4"/>
          <a:stretch/>
        </p:blipFill>
        <p:spPr>
          <a:xfrm>
            <a:off x="108000" y="3213000"/>
            <a:ext cx="151452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Résultat de recherche d'images pour &quot;gustave courbet&quot;"/>
          <p:cNvPicPr/>
          <p:nvPr/>
        </p:nvPicPr>
        <p:blipFill>
          <a:blip r:embed="rId5"/>
          <a:stretch/>
        </p:blipFill>
        <p:spPr>
          <a:xfrm>
            <a:off x="6804000" y="4221000"/>
            <a:ext cx="1857240" cy="2467080"/>
          </a:xfrm>
          <a:prstGeom prst="rect">
            <a:avLst/>
          </a:prstGeom>
          <a:ln w="0">
            <a:noFill/>
          </a:ln>
        </p:spPr>
      </p:pic>
      <p:sp>
        <p:nvSpPr>
          <p:cNvPr id="58" name="Espace réservé du pied de page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numéro de diapositive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158A-FF20-46D8-9FCB-2026ABE78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684360" y="242100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rles FOU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7"/>
          <p:cNvSpPr/>
          <p:nvPr/>
        </p:nvSpPr>
        <p:spPr>
          <a:xfrm>
            <a:off x="1403280" y="6021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ctor CONSIDE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8"/>
          <p:cNvSpPr/>
          <p:nvPr/>
        </p:nvSpPr>
        <p:spPr>
          <a:xfrm>
            <a:off x="4788000" y="270828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erre-Joseph PROUD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20"/>
          <p:cNvSpPr/>
          <p:nvPr/>
        </p:nvSpPr>
        <p:spPr>
          <a:xfrm>
            <a:off x="7093080" y="3860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ustave COUR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22"/>
          <p:cNvSpPr/>
          <p:nvPr/>
        </p:nvSpPr>
        <p:spPr>
          <a:xfrm>
            <a:off x="0" y="508464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enny d’HÉRI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0" descr="Fichier:Syamour, Marguerite.jpg"/>
          <p:cNvPicPr/>
          <p:nvPr/>
        </p:nvPicPr>
        <p:blipFill>
          <a:blip r:embed="rId6"/>
          <a:srcRect l="7666" t="3150" r="7666" b="9449"/>
          <a:stretch/>
        </p:blipFill>
        <p:spPr>
          <a:xfrm>
            <a:off x="3851280" y="4076640"/>
            <a:ext cx="1646280" cy="2068560"/>
          </a:xfrm>
          <a:prstGeom prst="rect">
            <a:avLst/>
          </a:prstGeom>
          <a:ln w="0">
            <a:noFill/>
          </a:ln>
        </p:spPr>
      </p:pic>
      <p:sp>
        <p:nvSpPr>
          <p:cNvPr id="68" name="ZoneTexte 24"/>
          <p:cNvSpPr/>
          <p:nvPr/>
        </p:nvSpPr>
        <p:spPr>
          <a:xfrm>
            <a:off x="3203640" y="616572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rguerite GAGNEUR dite SYAM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2" descr="Résultat de recherche d'images pour &quot;marie louise gagneur&quot;"/>
          <p:cNvPicPr/>
          <p:nvPr/>
        </p:nvPicPr>
        <p:blipFill>
          <a:blip r:embed="rId7"/>
          <a:srcRect l="11084" t="22145" r="33252" b="29527"/>
          <a:stretch/>
        </p:blipFill>
        <p:spPr>
          <a:xfrm>
            <a:off x="2556000" y="115920"/>
            <a:ext cx="1726920" cy="225252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26"/>
          <p:cNvSpPr/>
          <p:nvPr/>
        </p:nvSpPr>
        <p:spPr>
          <a:xfrm>
            <a:off x="2340000" y="2492280"/>
            <a:ext cx="23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rie-Louis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NEROT - GAGN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6" descr="Image illustrative de l'article Lucien Barbedette"/>
          <p:cNvPicPr/>
          <p:nvPr/>
        </p:nvPicPr>
        <p:blipFill>
          <a:blip r:embed="rId8"/>
          <a:srcRect l="15117" t="0" r="15117" b="23770"/>
          <a:stretch/>
        </p:blipFill>
        <p:spPr>
          <a:xfrm>
            <a:off x="7380360" y="476280"/>
            <a:ext cx="1384200" cy="192564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25"/>
          <p:cNvSpPr/>
          <p:nvPr/>
        </p:nvSpPr>
        <p:spPr>
          <a:xfrm>
            <a:off x="7164360" y="2637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ucien BARBED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2054-6E28-4A87-AE2A-C66B09308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3"/>
          <p:cNvSpPr/>
          <p:nvPr/>
        </p:nvSpPr>
        <p:spPr>
          <a:xfrm>
            <a:off x="684360" y="404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4 DISTINCTIONS MAJE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4"/>
          <p:cNvSpPr/>
          <p:nvPr/>
        </p:nvSpPr>
        <p:spPr>
          <a:xfrm>
            <a:off x="468360" y="105264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. Mouvements par en bas et horizont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 mouvements vertic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Fin (?) des visions jacobines, blanquistes ou lénini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Nouveaux paradigm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Raúl ZÍBECHI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isperser le pouvoi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2007),  John HOLLOWAY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hanger le monde sans prendre le pouvoi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I. Mouvements glob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 loc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mall is beautiful ? Mais Risques d’isolement et de dispersion, de nationalisme loca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II. Mouvements révolutionnaires et de rupture + ou - vio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 modérés et modestes et prag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V. Mouvements dans le système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 dans des niches ou brèches ou interstices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 hors du syst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Volonté post-fouriériste du pas-de-côté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 DOUTE ABSOLU et ÉCART ABSO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oneTexte 1"/>
          <p:cNvSpPr/>
          <p:nvPr/>
        </p:nvSpPr>
        <p:spPr>
          <a:xfrm>
            <a:off x="324000" y="115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IV. UTOPIES &amp; ALTERNATIVES AUJOURD'HU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2"/>
          <p:cNvSpPr/>
          <p:nvPr/>
        </p:nvSpPr>
        <p:spPr>
          <a:xfrm>
            <a:off x="395280" y="83664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Largement et résolument positive : </a:t>
            </a: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UTOPIE OUVERTE</a:t>
            </a: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 et/ou </a:t>
            </a: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LIBERTAIRE</a:t>
            </a: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f. filiation libertair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ISTOPHANE, RABELAIS Thélème, «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Fais ce que veul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», SWIFT, FOURIER, DÉJACQUE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L'Humanisphè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1859, William MORRIS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News from Nowhe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1890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alis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ncrè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deste,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agmatiqu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pragmatopi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Bolo'bolo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e P.M. 1983)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uver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évolutiv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horizonta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embléis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édéralis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ticulai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olidaire ou mutualiste ou collaborativ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la réalité comme dans le virtue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vivialité, réciprocité, entraide kropotkinienn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ci et maintena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Chris CARLSSON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Nowtopia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2008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IVE LA PROXIM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mpor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hétérotopies (FOUCAULT 1986) et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TAZ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Hakim BEY (1° éd. française 1997)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ZAD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Zones À Défend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luriel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globaleme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iber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E71B-2DFF-495F-ABF0-370453B93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oneTexte 1"/>
          <p:cNvSpPr/>
          <p:nvPr/>
        </p:nvSpPr>
        <p:spPr>
          <a:xfrm>
            <a:off x="108000" y="549360"/>
            <a:ext cx="885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Mais MAINTIEN VOIRE REPRISE DES UTOPIES AUTORITAIRES ET EXCLUSIVISTES</a:t>
            </a:r>
            <a:r>
              <a:rPr b="0" lang="fr-FR" sz="2400" spc="-1" strike="noStrike">
                <a:solidFill>
                  <a:srgbClr val="558ed5"/>
                </a:solidFill>
                <a:latin typeface="Calibri"/>
              </a:rPr>
              <a:t> notamment religieuse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eligieus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État islamique et utopie de l'Islam des origine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ectaires et fermé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philosophiques, mafieuses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ationalist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gionalist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/ou communautaristes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xclusivistes et fermées, élitistes, ploutocratiqu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paradis fiscaux, Davos, Sun Citi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Utopie-concept toujours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discuté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mais fortemen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réhabilité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2400"/>
            </a:b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UTOPIES-ALTERNATIVES multipliées et valorisées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f. livre de Bénédicte MANIER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n million de révolutions tranquil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201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4"/>
          <p:cNvSpPr/>
          <p:nvPr/>
        </p:nvSpPr>
        <p:spPr>
          <a:xfrm>
            <a:off x="684360" y="5084640"/>
            <a:ext cx="813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ichel.ANTONY@wanadoo.fr - http://www.acratie.eu/ - </a:t>
            </a:r>
            <a:fld id="{03676914-25D2-4AAF-BB14-3C542873722E}" type="datetime">
              <a:rPr b="0" lang="fr-FR" sz="16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https://fr.wikipedia.org/wiki/Michel_Anton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Indications bibliographiques : http://www.acratie.eu/FTPUTOP/UTOPBIBL.D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pprofondissement des thèmes évoqués : http://www.acratie.eu/FTPUTOP/U1-DEFIN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topies et socialismes comtois : http://www.acratie.eu/UtopiesFC.ht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pied de pag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39F7-2229-4535-B6D2-7907A071E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age 8" descr="Ronchamp.jpeg"/>
          <p:cNvPicPr/>
          <p:nvPr/>
        </p:nvPicPr>
        <p:blipFill>
          <a:blip r:embed="rId1"/>
          <a:stretch/>
        </p:blipFill>
        <p:spPr>
          <a:xfrm>
            <a:off x="4572000" y="2997360"/>
            <a:ext cx="4371840" cy="244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Résultat de recherche d'images pour &quot;salines royales d'arc et senans&quot;"/>
          <p:cNvPicPr/>
          <p:nvPr/>
        </p:nvPicPr>
        <p:blipFill>
          <a:blip r:embed="rId2"/>
          <a:stretch/>
        </p:blipFill>
        <p:spPr>
          <a:xfrm>
            <a:off x="179280" y="333360"/>
            <a:ext cx="4340160" cy="2951280"/>
          </a:xfrm>
          <a:prstGeom prst="rect">
            <a:avLst/>
          </a:prstGeom>
          <a:ln w="0">
            <a:noFill/>
          </a:ln>
        </p:spPr>
      </p:pic>
      <p:sp>
        <p:nvSpPr>
          <p:cNvPr id="78" name="Espace réservé du pied de page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ce réservé du numéro de diapositiv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0204-D00F-48A7-B741-3CE347C83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 8" descr="Syam.jpeg"/>
          <p:cNvPicPr/>
          <p:nvPr/>
        </p:nvPicPr>
        <p:blipFill>
          <a:blip r:embed="rId3"/>
          <a:stretch/>
        </p:blipFill>
        <p:spPr>
          <a:xfrm>
            <a:off x="1042920" y="3933720"/>
            <a:ext cx="2449440" cy="18352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9"/>
          <p:cNvSpPr/>
          <p:nvPr/>
        </p:nvSpPr>
        <p:spPr>
          <a:xfrm>
            <a:off x="468360" y="3429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c et Senans – Salines roy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2"/>
          <p:cNvSpPr/>
          <p:nvPr/>
        </p:nvSpPr>
        <p:spPr>
          <a:xfrm>
            <a:off x="4500720" y="573264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pelle de Ronchamp – Le Corbu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3"/>
          <p:cNvSpPr/>
          <p:nvPr/>
        </p:nvSpPr>
        <p:spPr>
          <a:xfrm>
            <a:off x="395280" y="609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ison palladienne de Sy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2"/>
          <p:cNvSpPr/>
          <p:nvPr/>
        </p:nvSpPr>
        <p:spPr>
          <a:xfrm>
            <a:off x="5219640" y="765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Quelques INNOVATIONS ARCHITECTU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plus que des UT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I. UN MOT «RÉCENT» d’il y a juste 500 ANS : Thomas MORE </a:t>
            </a:r>
            <a:r>
              <a:rPr b="1" i="1" lang="fr-FR" sz="4000" spc="-1" strike="noStrike">
                <a:solidFill>
                  <a:srgbClr val="ff0000"/>
                </a:solidFill>
                <a:latin typeface="Calibri"/>
              </a:rPr>
              <a:t>L'utopie</a:t>
            </a: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 15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Nusquama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nulle part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, première appellation chez MOR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ation (ou reconnaissance ?)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Calibri"/>
              </a:rPr>
              <a:t>d'un genre littéraire et politique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Calibri"/>
              </a:rPr>
              <a:t>mot générique ou commun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dès le XVII°, mais l'adjectif 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utopiqu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arrive une décennie après l'ouvrage de MORE. Le terme francisé «</a:t>
            </a: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utopi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» se trouve déjà chez RABELAIS (1532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 u="sng">
                <a:solidFill>
                  <a:srgbClr val="000000"/>
                </a:solidFill>
                <a:uFillTx/>
                <a:latin typeface="Calibri"/>
              </a:rPr>
              <a:t>Triple aspect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lang="fr-FR" sz="2100" spc="-1" strike="noStrike">
                <a:solidFill>
                  <a:srgbClr val="558ed5"/>
                </a:solidFill>
                <a:latin typeface="Calibri"/>
              </a:rPr>
              <a:t>UTOPIE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 (ou A-topie) = sans lieu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, donc tout est possi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lang="fr-FR" sz="2100" spc="-1" strike="noStrike">
                <a:solidFill>
                  <a:srgbClr val="558ed5"/>
                </a:solidFill>
                <a:latin typeface="Calibri"/>
              </a:rPr>
              <a:t>EUTOPI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Eudémoni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fr-F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pourtant «</a:t>
            </a:r>
            <a:r>
              <a:rPr b="0" i="1" lang="fr-FR" sz="2100" spc="-1" strike="noStrike">
                <a:solidFill>
                  <a:srgbClr val="000000"/>
                </a:solidFill>
                <a:latin typeface="Calibri"/>
              </a:rPr>
              <a:t>le bonheur une idée neuve en Europ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» dit SAINT-JUST presque 3 siècles plus tard (1794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lang="fr-FR" sz="2100" spc="-1" strike="noStrike">
                <a:solidFill>
                  <a:srgbClr val="558ed5"/>
                </a:solidFill>
                <a:latin typeface="Calibri"/>
              </a:rPr>
              <a:t>Dualisme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 de ce type d'œuvre : envers et endroit, enfer et paradis, dystopie et utopie, réalité à dénoncer et projet ALTERNATIF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8682-3722-4ECF-984E-A8E904D23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II. EN FAIT une HISTOIRE DE TOUT TEMPS ET EN TOUT LIEU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 u="sng">
                <a:solidFill>
                  <a:srgbClr val="558ed5"/>
                </a:solidFill>
                <a:uFillTx/>
                <a:latin typeface="Calibri"/>
              </a:rPr>
              <a:t>Écrits anciens</a:t>
            </a:r>
            <a:r>
              <a:rPr b="1" lang="fr-FR" sz="19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HÉSIOD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Taoïsm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nirvâna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asiatique,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paradis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perse, et surtout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PLATON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La République-De la justic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Les Lois-De la législation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mais aussi mythe de l'Atlantide : 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Timée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&amp;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 Critias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), 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 u="sng">
                <a:solidFill>
                  <a:srgbClr val="558ed5"/>
                </a:solidFill>
                <a:uFillTx/>
                <a:latin typeface="Calibri"/>
              </a:rPr>
              <a:t>Pensées et mouvements hérétiques et forcément alternatifs</a:t>
            </a:r>
            <a:r>
              <a:rPr b="1" lang="fr-FR" sz="19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dans toutes les aires culturelles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donc aussi dans l'Islam : ébauche démocratique kharidjiste, «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communism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» kharmate, anti-dogmatisme moutazilite, aspirations libertaires des soufis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 u="sng">
                <a:solidFill>
                  <a:srgbClr val="558ed5"/>
                </a:solidFill>
                <a:uFillTx/>
                <a:latin typeface="Calibri"/>
              </a:rPr>
              <a:t>Mouvements collectifs alternatifs anciens</a:t>
            </a:r>
            <a:r>
              <a:rPr b="1" lang="fr-FR" sz="19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: communautés, révoltes, «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révélations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» apocalyptiques, millénarismes ou chiliasmes, associations solidaires, compagnonnages, monastères et confréries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 u="sng">
                <a:solidFill>
                  <a:srgbClr val="558ed5"/>
                </a:solidFill>
                <a:uFillTx/>
                <a:latin typeface="Calibri"/>
              </a:rPr>
              <a:t>Civilisations premières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acéphales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contre-l'État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… Cf. l'anthropologie libertaire Pierre KROPOTKINE, Marcel MAUSS, Pierre CLASTRES 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La société contre l'État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1974 ; David GRAEBER </a:t>
            </a:r>
            <a:r>
              <a:rPr b="0" i="1" lang="fr-FR" sz="1900" spc="-1" strike="noStrike">
                <a:solidFill>
                  <a:srgbClr val="000000"/>
                </a:solidFill>
                <a:latin typeface="Calibri"/>
              </a:rPr>
              <a:t>Pour une Anthropologie anarchist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2006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 u="sng">
                <a:solidFill>
                  <a:srgbClr val="000000"/>
                </a:solidFill>
                <a:uFillTx/>
                <a:latin typeface="Calibri"/>
              </a:rPr>
              <a:t>Dès le XVIII° siècl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1900" spc="-1" strike="noStrike">
                <a:solidFill>
                  <a:srgbClr val="558ed5"/>
                </a:solidFill>
                <a:latin typeface="Calibri"/>
              </a:rPr>
              <a:t>UTOPIE LIÉE AUX SOCIALISMES PREMIERS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: socialismes de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l’association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, recherche de </a:t>
            </a:r>
            <a:r>
              <a:rPr b="1" lang="fr-FR" sz="1900" spc="-1" strike="noStrike">
                <a:solidFill>
                  <a:srgbClr val="000000"/>
                </a:solidFill>
                <a:latin typeface="Calibri"/>
              </a:rPr>
              <a:t>l'eunomie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… GODWIN - OWEN - FOURIER - WEITLING - LEROUX - PROUDHON… et MARX auss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6756-E4BF-4B72-BD08-A3DE0D366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III. MOT PLURIEL ET POLYSÉM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3"/>
          <p:cNvSpPr/>
          <p:nvPr/>
        </p:nvSpPr>
        <p:spPr>
          <a:xfrm>
            <a:off x="250920" y="1052640"/>
            <a:ext cx="87138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III. 1- Autrefois sens PÉJORATIF ET/OU RÉDUCTE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Utopie-ILLUSION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Invention farfelue, peu crédible donc ?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ouhait plus qu'une possibilité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phrase de MORE)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Utopie-DÉCONSIDÉRATION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des concurrents. Caricature présentée par le marxisme : ENGELS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Socialisme utopique-Socialisme scientifique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18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Utopies TRANSCENDANT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sans intervention humai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RCADIES, PARADIS et ÂGE D'OR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MYTH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…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is le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rimitivist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J. ZERZAN, R. VANEIGEM…) revendiquen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’EDEN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comme société non dégradée et plus proche de la n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UTOPIE (CLASSIQUE) FERMÉE, FIGÉE, GÉOMÉTRIQUE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… quasiment dystopique par son uniformité et par l'oppression généralisé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UTOPIE TOTALITAIRE au XX° siècle ?  Bolchevisme-stalinisme, nazism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f. Pin YATHAY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L'utopie meurtrière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1989 - François FURET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Le passé d'une illusion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oblème des </a:t>
            </a:r>
            <a:r>
              <a:rPr b="1" lang="fr-FR" sz="1600" spc="-1" strike="noStrike">
                <a:solidFill>
                  <a:srgbClr val="558ed5"/>
                </a:solidFill>
                <a:latin typeface="Calibri"/>
              </a:rPr>
              <a:t>DYSTOPIES ET/OU CONTRE-UTOP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Evgueni ZAMIATINE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Nous autr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192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ldous HUXLEY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Le meilleur des mond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193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George ORWELL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La ferme des animaux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1945) et </a:t>
            </a: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1984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(19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= œuvre libre, anticipatrice, dénonciatrice, de mise en gar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F009-3514-4125-AE0B-D34844E03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III. MOT PLURIEL ET POLYSÉM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3"/>
          <p:cNvSpPr/>
          <p:nvPr/>
        </p:nvSpPr>
        <p:spPr>
          <a:xfrm>
            <a:off x="108000" y="1484280"/>
            <a:ext cx="885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III.2- Utopie POSITIVE et MOTEUR DU CHANG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Utopie PROPOSITIONNELLE = PROJET, DESCRIPTION</a:t>
            </a:r>
            <a:r>
              <a:rPr b="0" lang="fr-FR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ittéraire, programme, alternative, contre-société, nouvel imaginaire (CASTORIADIS), éloge des «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maîtres-rêveur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» de Miguel ABENSOU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= RÊVER, PENSER, PRÉVOIR, ESPÉRE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le propre de l'humanité et une chance pour son aven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Utopie = PULSION</a:t>
            </a:r>
            <a:r>
              <a:rPr b="0" lang="fr-FR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forme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italism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ositif et nécessai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Karl MANNHEIM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déologie &amp; Utopi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1929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rnst BLOCH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Principe Espéranc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Das Prinzip Hoffnung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1954-1959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avant des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Calibri"/>
              </a:rPr>
              <a:t>UTOPIES CONCRÈT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= analyses, revendications et multiplication des expérimentations et associations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alternativ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C71F-43E9-42E8-AAB9-5B5C66051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oneTexte 1"/>
          <p:cNvSpPr/>
          <p:nvPr/>
        </p:nvSpPr>
        <p:spPr>
          <a:xfrm>
            <a:off x="250920" y="115920"/>
            <a:ext cx="8569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IV. MULTIPLICA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Calibri"/>
              </a:rPr>
              <a:t>UTOPIES TESTÉES ET EXPÉRIMENTÉ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= ALTERNATIVES, LABORATOIRES, ESSAIS, COMMUNAUTÉS, PHAL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58ed5"/>
                </a:solidFill>
                <a:latin typeface="Calibri"/>
              </a:rPr>
              <a:t>A. MICROSOCIÉTÉS INTENTIONNELLES</a:t>
            </a:r>
            <a:r>
              <a:rPr b="0" lang="fr-FR" sz="2000" spc="-1" strike="noStrike">
                <a:solidFill>
                  <a:srgbClr val="558ed5"/>
                </a:solidFill>
                <a:latin typeface="Calibri"/>
              </a:rPr>
              <a:t>  et tentatives </a:t>
            </a:r>
            <a:r>
              <a:rPr b="1" lang="fr-FR" sz="2000" spc="-1" strike="noStrike">
                <a:solidFill>
                  <a:srgbClr val="558ed5"/>
                </a:solidFill>
                <a:latin typeface="Calibri"/>
              </a:rPr>
              <a:t>d’AUTOGOUVERNEMENT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pied de page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426D-3575-4635-9EA4-BDED191F4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4"/>
          <p:cNvSpPr/>
          <p:nvPr/>
        </p:nvSpPr>
        <p:spPr>
          <a:xfrm>
            <a:off x="611280" y="19162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halang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ans l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halanstèr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un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loni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lieux libr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XIX° :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a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écilia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Brésil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Reun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Texas avec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NSIDERA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larisse VIGOUR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u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e 71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viets, Conseils, Räte, Consigl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 révolutionnaires  1905-19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ibus, Collectivités, Collectif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,  Espagne libertaire de1936, 1968, fin XX° et XXI°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a Comunidad del Sur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nte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Kibbutz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topédagogi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cotopi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CALLENBACH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cotop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1975) e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covillag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ntres sociaux CSA, Ateneos, Squa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munautés virtuel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b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98B7-9E1F-46C4-BB2C-D8AB34735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08000" y="836640"/>
            <a:ext cx="8640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58ed5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58ed5"/>
                </a:solidFill>
                <a:latin typeface="Arial"/>
              </a:rPr>
              <a:t>IV. B. ESSAIS D'AUTONOMIE, D'AUTOGESTION</a:t>
            </a:r>
            <a:r>
              <a:rPr b="0" lang="fr-FR" sz="2000" spc="-1" strike="noStrike">
                <a:solidFill>
                  <a:srgbClr val="558ed5"/>
                </a:solidFill>
                <a:latin typeface="Arial"/>
              </a:rPr>
              <a:t>, de </a:t>
            </a:r>
            <a:r>
              <a:rPr b="1" lang="fr-FR" sz="2000" spc="-1" strike="noStrike">
                <a:solidFill>
                  <a:srgbClr val="558ed5"/>
                </a:solidFill>
                <a:latin typeface="Arial"/>
              </a:rPr>
              <a:t>MUTU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opératives,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fruitièr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jurassiennes et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Fraternel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Saint Claude, Valentigne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sines et services occupé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cupéré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Mouvement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ogestionnair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mmunauté du Travail du Bêlier-BOIMONDEA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I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’Épé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Portugal 74, Argentine 2001, Grèce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nnai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ocales 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Piv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e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n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u peuple, microcrédit, banques mutualist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erm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togérées 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Fontaine-les-Clerva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ardi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urbains et jardins partagé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utualistes, collaboratifs : garages communautaires, FABLAB 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3 Lapi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afé des pratiques, Repair café de Bessoncour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change véridiqu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FOURIE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ou solidaire :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SEL, AMA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sations culturelles solidair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UP, CCPPO, Medvedki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êtes, Foires et Happening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 La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rave party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AZ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972E-3B4E-4822-BBA0-50074DAAA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24000" y="476280"/>
            <a:ext cx="84247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58ed5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V. </a:t>
            </a:r>
            <a:r>
              <a:rPr b="1" lang="fr-FR" sz="2800" spc="-1" strike="noStrike" u="sng">
                <a:solidFill>
                  <a:srgbClr val="ff0000"/>
                </a:solidFill>
                <a:uFillTx/>
                <a:latin typeface="Arial"/>
              </a:rPr>
              <a:t>RÉCENTS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et </a:t>
            </a:r>
            <a:r>
              <a:rPr b="1" lang="fr-FR" sz="2800" spc="-1" strike="noStrike" u="sng">
                <a:solidFill>
                  <a:srgbClr val="ff0000"/>
                </a:solidFill>
                <a:uFillTx/>
                <a:latin typeface="Arial"/>
              </a:rPr>
              <a:t>NOUVEAUX (?) MOUVEMENTS ALTERNA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TERMONDIALIST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mouvement anti-globalisation… :  années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NTEMPS DES PEUPLES et MOUVEMENT DES PLAC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nées 2000: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Indignados, Occupy Wall Street, Balais citoyen, Nuit Debou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Printemps arabe, turc, perse, chinois… Plus ou moins récupérés et détournés :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Podemo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voire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Syriz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n Grè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«Laboratoires latino-américains»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iapas &amp; Oaxac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Mexiqu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 Collectif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rrio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bolivie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Récupérations d'entreprises e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oges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rgentin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récupération de terres et auto-organisations 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ns Terre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brésilie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IS aussi ailleurs 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OJAV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kurde 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fédéralisme démocratiqu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mportance des COLLECTIFS CITOYENS ET/OU MILITANTS : TAZ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ZA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NDD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NO TAV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NO MUO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)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ordination nationa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nvergence national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mité de Vigilanc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llectifs d’Aides aux Migran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ntatives de PARTICIPATION à la gestion locale et/ou municipa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comités de quartier, municipalisme ou communalisme (Murray BOOKCHIN), «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illes frappées d’autoges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andoncourt, Marinale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2T11:13:33Z</dcterms:created>
  <dc:creator>Michel ANTONY</dc:creator>
  <dc:description/>
  <dc:language>en-US</dc:language>
  <cp:lastModifiedBy>Michel ANTONY</cp:lastModifiedBy>
  <dcterms:modified xsi:type="dcterms:W3CDTF">2018-05-12T12:12:17Z</dcterms:modified>
  <cp:revision>54</cp:revision>
  <dc:subject/>
  <dc:title>UTOPIES ET ALTERNATIVES.</dc:title>
</cp:coreProperties>
</file>