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63CB-184A-4955-BC30-17C1A80849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47B-F2CE-4626-8808-CA256772D9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B15-B771-48DB-AD0D-21B19469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86E-8D6F-4218-9582-A911846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459-C3D2-4B06-93E8-B60B336C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4CB-8CA6-4572-AF78-69BE2BE3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AEC-43C5-48EC-8803-27508CD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651-F849-4AEF-8B17-CE37BEC1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CD8-AD1F-444F-9161-54BACEEB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53A-00AB-4A56-A6C8-8D44CF2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E00-C56F-4EB4-B3C9-B715B6B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36E-941B-408A-B199-5A8A538C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7F5-F6E8-4878-A1A5-C5D4BD3C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2E9-DDB4-4051-8E44-BEA2F7E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0D0-D85F-41EA-A3EF-DF016DB94CE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75F1-2EB8-460E-BDF8-C7B4F907B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3933720"/>
            <a:ext cx="6621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TOPIES ET ALTERNATIVES</a:t>
            </a:r>
            <a:br>
              <a:rPr sz="4000"/>
            </a:b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en Comté et ailleurs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5" descr="Fourier.jpeg"/>
          <p:cNvPicPr/>
          <p:nvPr/>
        </p:nvPicPr>
        <p:blipFill>
          <a:blip r:embed="rId1"/>
          <a:stretch/>
        </p:blipFill>
        <p:spPr>
          <a:xfrm>
            <a:off x="324000" y="189000"/>
            <a:ext cx="2057400" cy="22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fficher l'image d'origine"/>
          <p:cNvPicPr/>
          <p:nvPr/>
        </p:nvPicPr>
        <p:blipFill>
          <a:blip r:embed="rId2"/>
          <a:srcRect l="8918" t="0" r="7644" b="25565"/>
          <a:stretch/>
        </p:blipFill>
        <p:spPr>
          <a:xfrm>
            <a:off x="4932360" y="260280"/>
            <a:ext cx="207324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9" descr="Considerant.jpeg"/>
          <p:cNvPicPr/>
          <p:nvPr/>
        </p:nvPicPr>
        <p:blipFill>
          <a:blip r:embed="rId3"/>
          <a:stretch/>
        </p:blipFill>
        <p:spPr>
          <a:xfrm>
            <a:off x="1835280" y="4365720"/>
            <a:ext cx="1504800" cy="1552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11" descr="Jenny.jpeg"/>
          <p:cNvPicPr/>
          <p:nvPr/>
        </p:nvPicPr>
        <p:blipFill>
          <a:blip r:embed="rId4"/>
          <a:stretch/>
        </p:blipFill>
        <p:spPr>
          <a:xfrm>
            <a:off x="108000" y="321300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Résultat de recherche d'images pour &quot;gustave courbet&quot;"/>
          <p:cNvPicPr/>
          <p:nvPr/>
        </p:nvPicPr>
        <p:blipFill>
          <a:blip r:embed="rId5"/>
          <a:stretch/>
        </p:blipFill>
        <p:spPr>
          <a:xfrm>
            <a:off x="6804000" y="4221000"/>
            <a:ext cx="185724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Espace réservé du pied de pag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numéro de diapositiv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932-9FF4-4580-95C2-55979B708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684360" y="2421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7"/>
          <p:cNvSpPr/>
          <p:nvPr/>
        </p:nvSpPr>
        <p:spPr>
          <a:xfrm>
            <a:off x="140328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ctor CONSID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8"/>
          <p:cNvSpPr/>
          <p:nvPr/>
        </p:nvSpPr>
        <p:spPr>
          <a:xfrm>
            <a:off x="4788000" y="2708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erre-Joseph PROUD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0"/>
          <p:cNvSpPr/>
          <p:nvPr/>
        </p:nvSpPr>
        <p:spPr>
          <a:xfrm>
            <a:off x="7093080" y="3860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ustave COUR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2"/>
          <p:cNvSpPr/>
          <p:nvPr/>
        </p:nvSpPr>
        <p:spPr>
          <a:xfrm>
            <a:off x="0" y="508464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nny d’HÉRI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Fichier:Syamour, Marguerite.jpg"/>
          <p:cNvPicPr/>
          <p:nvPr/>
        </p:nvPicPr>
        <p:blipFill>
          <a:blip r:embed="rId6"/>
          <a:srcRect l="7666" t="3150" r="7666" b="9449"/>
          <a:stretch/>
        </p:blipFill>
        <p:spPr>
          <a:xfrm>
            <a:off x="3851280" y="4076640"/>
            <a:ext cx="1646280" cy="206856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24"/>
          <p:cNvSpPr/>
          <p:nvPr/>
        </p:nvSpPr>
        <p:spPr>
          <a:xfrm>
            <a:off x="3203640" y="616572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guerite GAGNEUR dite SYAM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Résultat de recherche d'images pour &quot;marie louise gagneur&quot;"/>
          <p:cNvPicPr/>
          <p:nvPr/>
        </p:nvPicPr>
        <p:blipFill>
          <a:blip r:embed="rId7"/>
          <a:srcRect l="11084" t="22145" r="33252" b="29527"/>
          <a:stretch/>
        </p:blipFill>
        <p:spPr>
          <a:xfrm>
            <a:off x="2556000" y="115920"/>
            <a:ext cx="1726920" cy="225252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26"/>
          <p:cNvSpPr/>
          <p:nvPr/>
        </p:nvSpPr>
        <p:spPr>
          <a:xfrm>
            <a:off x="2340000" y="249228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ie-Louis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NEROT - GAGN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Image illustrative de l'article Lucien Barbedette"/>
          <p:cNvPicPr/>
          <p:nvPr/>
        </p:nvPicPr>
        <p:blipFill>
          <a:blip r:embed="rId8"/>
          <a:srcRect l="15117" t="0" r="15117" b="23770"/>
          <a:stretch/>
        </p:blipFill>
        <p:spPr>
          <a:xfrm>
            <a:off x="7380360" y="476280"/>
            <a:ext cx="1384200" cy="192564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25"/>
          <p:cNvSpPr/>
          <p:nvPr/>
        </p:nvSpPr>
        <p:spPr>
          <a:xfrm>
            <a:off x="7164360" y="26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ucien BARBED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C23-A340-42BE-9669-4BFBB52C2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3"/>
          <p:cNvSpPr/>
          <p:nvPr/>
        </p:nvSpPr>
        <p:spPr>
          <a:xfrm>
            <a:off x="684360" y="40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4 DISTINCTIONS MAJE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4"/>
          <p:cNvSpPr/>
          <p:nvPr/>
        </p:nvSpPr>
        <p:spPr>
          <a:xfrm>
            <a:off x="468360" y="105264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. Mouvements par en bas et horizon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mouvements verti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Fin (?) des visions jacobines, blanquistes ou lénin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uveaux paradigm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Raúl ZÍBECHI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isperser le pouvo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2007),  John HOLLOWAY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hanger le monde sans prendre le pouvo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I. Mouvements glob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lo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mall is beautiful ? Mais Risques d’isolement et de dispersion, de nationalisme loc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II. Mouvements révolutionnaires et de rupture + ou - vio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modérés et modestes et prag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V. Mouvements dans le systèm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dans des niches ou brèches ou interstices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hors du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olonté post-fouriériste du pas-de-côté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DOUTE ABSOLU et ÉCART ABS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1"/>
          <p:cNvSpPr/>
          <p:nvPr/>
        </p:nvSpPr>
        <p:spPr>
          <a:xfrm>
            <a:off x="324000" y="11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IV. UTOPIES &amp; ALTERNATIVES AUJOURD'HU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2"/>
          <p:cNvSpPr/>
          <p:nvPr/>
        </p:nvSpPr>
        <p:spPr>
          <a:xfrm>
            <a:off x="395280" y="83664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Largement et résolument positive :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OUVERT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et/ou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LIBERTAIR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f. filiation libertair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ISTOPHANE, RABELAIS Thélème, «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Fais ce que veul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, SWIFT, FOURIER, DÉJACQU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L'Humanisphè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59, William MORRIS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ews from Nowhe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9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rè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este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agma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agmatop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olo'bol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P.M. 1983)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uver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volu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horizont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emblé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édér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ticula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olidaire ou mutualiste ou collaborativ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réalité comme dans le virtu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ivialité, réciprocité, entraide kropotkinien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ci et mainte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Chris CARLSSON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owtop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2008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VE LA PROXIM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mpor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hétérotopies (FOUCAULT 1986) 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AZ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Hakim BEY (1° éd. française 1997)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ZA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s À Défend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riel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globaleme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ber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3071-F271-406B-9A30-FEF4138C5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1"/>
          <p:cNvSpPr/>
          <p:nvPr/>
        </p:nvSpPr>
        <p:spPr>
          <a:xfrm>
            <a:off x="108000" y="549360"/>
            <a:ext cx="885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Mais MAINTIEN VOIRE REPRISE DES UTOPIES AUTORITAIRES ET EXCLUSIVISTES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notamment religieuse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ligieu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État islamique et utopie de l'Islam des origin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ctaires et fermé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philosophiques, mafieus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ational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gional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/ou communautaris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clusivistes et fermées, élitistes, ploutocratiqu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paradis fiscaux, Davos, Sun Citi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opie-concept toujours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discuté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mais fortem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réhabilité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UTOPIES-ALTERNATIVES multipliées et valorisées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. livre de Bénédicte MANIER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 million de révolutions tranqui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201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4"/>
          <p:cNvSpPr/>
          <p:nvPr/>
        </p:nvSpPr>
        <p:spPr>
          <a:xfrm>
            <a:off x="684360" y="5084640"/>
            <a:ext cx="81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hel.ANTONY@wanadoo.fr - http://www.acratie.eu/ - </a:t>
            </a:r>
            <a:fld id="{DBF8544E-00F2-4242-88C2-67C386C56EE5}" type="datetime">
              <a:rPr b="0" lang="fr-FR" sz="16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ttps://fr.wikipedia.org/wiki/Michel_Anto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Indications bibliographiques : http://www.acratie.eu/FTPUTOP/UTOPBIBL.D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fondissement des thèmes évoqués : http://www.acratie.eu/FTPUTOP/U1-DEFIN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topies et socialismes comtois : http://www.acratie.eu/UtopiesFC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61E-3310-4AF0-85AF-EF7E02E12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 8" descr="Ronchamp.jpeg"/>
          <p:cNvPicPr/>
          <p:nvPr/>
        </p:nvPicPr>
        <p:blipFill>
          <a:blip r:embed="rId1"/>
          <a:stretch/>
        </p:blipFill>
        <p:spPr>
          <a:xfrm>
            <a:off x="4572000" y="2997360"/>
            <a:ext cx="437184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Résultat de recherche d'images pour &quot;salines royales d'arc et senans&quot;"/>
          <p:cNvPicPr/>
          <p:nvPr/>
        </p:nvPicPr>
        <p:blipFill>
          <a:blip r:embed="rId2"/>
          <a:stretch/>
        </p:blipFill>
        <p:spPr>
          <a:xfrm>
            <a:off x="179280" y="333360"/>
            <a:ext cx="4340160" cy="2951280"/>
          </a:xfrm>
          <a:prstGeom prst="rect">
            <a:avLst/>
          </a:prstGeom>
          <a:ln w="0">
            <a:noFill/>
          </a:ln>
        </p:spPr>
      </p:pic>
      <p:sp>
        <p:nvSpPr>
          <p:cNvPr id="78" name="Espace réservé du pied de pag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66A-B6DE-4673-BCFB-FDF91714C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8" descr="Syam.jpeg"/>
          <p:cNvPicPr/>
          <p:nvPr/>
        </p:nvPicPr>
        <p:blipFill>
          <a:blip r:embed="rId3"/>
          <a:stretch/>
        </p:blipFill>
        <p:spPr>
          <a:xfrm>
            <a:off x="1042920" y="393372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9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 et Senans – Salines roy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2"/>
          <p:cNvSpPr/>
          <p:nvPr/>
        </p:nvSpPr>
        <p:spPr>
          <a:xfrm>
            <a:off x="4500720" y="5732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pelle de Ronchamp – Le Corbu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3"/>
          <p:cNvSpPr/>
          <p:nvPr/>
        </p:nvSpPr>
        <p:spPr>
          <a:xfrm>
            <a:off x="395280" y="609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on palladienne de S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5219640" y="765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Quelques INNOVATIONS ARCHITECTU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plus que des UT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. UN MOT «RÉCENT» d’il y a juste 500 ANS : Thomas MORE </a:t>
            </a:r>
            <a:r>
              <a:rPr b="1" i="1" lang="fr-FR" sz="4000" spc="-1" strike="noStrike">
                <a:solidFill>
                  <a:srgbClr val="ff0000"/>
                </a:solidFill>
                <a:latin typeface="Calibri"/>
              </a:rPr>
              <a:t>L'utopie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 15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squama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lle par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, première appellation chez MOR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ation (ou reconnaissance ?)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d'un genre littéraire et polit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mot générique ou commu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ès le XVII°, mais l'adjectif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utopiqu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rrive une décennie après l'ouvrage de MORE. Le terme francisé «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se trouve déjà chez RABELAIS (1532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Triple aspect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UTOPI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(ou A-topie) = sans lieu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, donc tout est pos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E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Eudémon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pourtant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le bonheur une idée neuve en Europ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dit SAINT-JUST presque 3 siècles plus tard (1794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Dualism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de ce type d'œuvre : envers et endroit, enfer et paradis, dystopie et utopie, réalité à dénoncer et projet ALTERNATIF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EF57-776E-4C31-8F48-50BDE7E9B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I. EN FAIT une HISTOIRE DE TOUT TEMPS ET EN TOUT LIEU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Écrits ancien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HÉSIOD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Taoïsm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nirvâna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asiatique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paradi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perse, et surtout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PLAT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a République-De la justic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es Lois-De la législati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mais aussi mythe de l'Atlantide :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Timée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 Critia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), 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Pensées et mouvements hérétiques et forcément alternatif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dans toutes les aires culturelles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donc aussi dans l'Islam : ébauche démocratique kharidjiste, «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» kharmate, anti-dogmatisme moutazilite, aspirations libertaires des soufis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Mouvements collectifs alternatifs ancien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communautés, révoltes, «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révélation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» apocalyptiques, millénarismes ou chiliasmes, associations solidaires, compagnonnages, monastères et confréries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Civilisations première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acéphale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contre-l'État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… Cf. l'anthropologie libertaire Pierre KROPOTKINE, Marcel MAUSS, Pierre CLASTRES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a société contre l'État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1974 ; David GRAEBER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Pour une Anthropologie anarchist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2006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 u="sng">
                <a:solidFill>
                  <a:srgbClr val="000000"/>
                </a:solidFill>
                <a:uFillTx/>
                <a:latin typeface="Calibri"/>
              </a:rPr>
              <a:t>Dès le XVIII° siècl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UTOPIE LIÉE AUX SOCIALISMES PREMIERS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socialismes de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l’associati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recherche de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l'eunomi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… GODWIN - OWEN - FOURIER - WEITLING - LEROUX - PROUDHON… et MARX auss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1BD2-174C-4AB2-822F-1337E6235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250920" y="1052640"/>
            <a:ext cx="87138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 1- Autrefois sens PÉJORATIF ET/OU RÉDUCT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-ILLUS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Invention farfelue, peu crédible donc ?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hait plus qu'une possibilité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phrase de MORE)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-DÉCONSIDÉRAT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s concurrents. Caricature présentée par le marxisme : ENGELS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Socialisme utopique-Socialisme scientifiqu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8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s TRANSCENDAN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sans intervention humai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RCADIES, PARADIS et ÂGE D'OR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YTH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…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imitivis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J. ZERZAN, R. VANEIGEM…) revendiqu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’EDE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comme société non dégradée et plus proche de la n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 (CLASSIQUE) FERMÉE, FIGÉE, GÉOMÉTRIQU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… quasiment dystopique par son uniformité et par l'oppression généralis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 TOTALITAIRE au XX° siècle ?  Bolchevisme-stalinisme, nazism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f. Pin YATHAY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'utopie meurtrièr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1989 - François FURET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e passé d'une illus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blème des </a:t>
            </a: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DYSTOPIES ET/OU CONTRE-UTO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vgueni ZAMIATINE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Nous autr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2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ldous HUXLEY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e meilleur des mond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3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George ORWELL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a ferme des animaux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45) et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1984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= œuvre libre, anticipatrice, dénonciatrice, de mise en gar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05F-24F8-4432-B5C3-45BAFCBBF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3"/>
          <p:cNvSpPr/>
          <p:nvPr/>
        </p:nvSpPr>
        <p:spPr>
          <a:xfrm>
            <a:off x="108000" y="1484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2- Utopie POSITIVE et MOTEUR DU CHANG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PROPOSITIONNELLE = PROJET, DESCRIPT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ttéraire, programme, alternative, contre-société, nouvel imaginaire (CASTORIADIS), éloge des «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aîtres-rêveur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de Miguel ABENSOU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RÊVER, PENSER, PRÉVOIR, ESPÉ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le propre de l'humanité et une chance pour son av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ULS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form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tal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itif et nécess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arl MANNHEIM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déologie &amp; Utopi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1929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nst BLOCH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incipe Espéranc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as Prinzip Hoffnung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1954-1959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avant des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UTOPIES CONCRÈT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analyses, revendications et multiplication des expérimentations et association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lternativ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6B15-027B-4555-8643-130FB3A64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1"/>
          <p:cNvSpPr/>
          <p:nvPr/>
        </p:nvSpPr>
        <p:spPr>
          <a:xfrm>
            <a:off x="250920" y="115920"/>
            <a:ext cx="8569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V. MULTIPLICA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UTOPIES TESTÉES ET EXPÉRIMENTÉ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= ALTERNATIVES, LABORATOIRES, ESSAIS, COMMUNAUTÉS, PHAL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A. MICROSOCIÉTÉS INTENTIONNELLES</a:t>
            </a:r>
            <a:r>
              <a:rPr b="0" lang="fr-FR" sz="2000" spc="-1" strike="noStrike">
                <a:solidFill>
                  <a:srgbClr val="558ed5"/>
                </a:solidFill>
                <a:latin typeface="Calibri"/>
              </a:rPr>
              <a:t>  et tentatives </a:t>
            </a: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d’AUTOGOUVERNEMEN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2222-A17B-4D22-903A-8FD63CEC0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4"/>
          <p:cNvSpPr/>
          <p:nvPr/>
        </p:nvSpPr>
        <p:spPr>
          <a:xfrm>
            <a:off x="611280" y="19162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alang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ans l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alanstè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lon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lieux lib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XIX°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écilia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Brésil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eun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Texas avec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NSIDERA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larisse VIGOU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71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viets, Conseils, Räte, Consig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révolutionnaires  1905-1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ibus, Collectivités, Collectif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,  Espagne libertaire de1936, 1968, fin XX° et XXI°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a Comunidad del Su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nte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ibbutz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opédagog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otop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CALLENBACH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cotop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975)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ovillag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ntres sociaux CSA, Ateneos, Squa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autés virtue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9F85-EE19-444B-9E1E-7DEE7C7FB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8000" y="836640"/>
            <a:ext cx="8640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IV. B. ESSAIS D'AUTONOMIE, D'AUTOGESTION</a:t>
            </a:r>
            <a:r>
              <a:rPr b="0" lang="fr-FR" sz="2000" spc="-1" strike="noStrike">
                <a:solidFill>
                  <a:srgbClr val="558ed5"/>
                </a:solidFill>
                <a:latin typeface="Arial"/>
              </a:rPr>
              <a:t>, de </a:t>
            </a: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MUTU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pératives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fruitiè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jurassiennes et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Fraternel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aint Claude, Valentigne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sines et services occupé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upér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Mouvement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gestionnai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mmunauté du Travail du Bêlier-BOIMONDEA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I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’Épé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Portugal 74, Argentine 2001, Grèc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na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ocales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n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peuple, microcrédit, banques mutualis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rm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togérées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ontaine-les-Clerv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ardi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rbains et jardins partag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utualistes, collaboratifs : garages communautaires, FABLAB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3 Lapi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afé des pratiques, Repair café de Bessoncou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hange véridiqu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OURI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ou solidaire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EL, AMA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sations culturelles solidai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UP, CCPPO, Medvedk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êtes, Foires et Happening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La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ave party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7C9-D393-4512-8A11-6C36ED0C9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476280"/>
            <a:ext cx="8424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V. </a:t>
            </a:r>
            <a:r>
              <a:rPr b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RÉCENTS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et </a:t>
            </a:r>
            <a:r>
              <a:rPr b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NOUVEAUX (?) MOUVEMENTS ALTERNA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TERMONDIALIS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mouvement anti-globalisation… :  années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NTEMPS DES PEUPLES et MOUVEMENT DES PLAC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ées 2000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Indignados, Occupy Wall Street, Balais citoyen, Nuit Debo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Printemps arabe, turc, perse, chinois… Plus ou moins récupérés et détournés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odem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voir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yriz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n Grè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Laboratoires latino-américains»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apas &amp; Oaxac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ex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 Collectif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rri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olivie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écupérations d'entreprises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ges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rgenti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écupération de terres et auto-organisations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ns Terr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résili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 aussi ailleurs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JAV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kurde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édéralisme démocrat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ortance des COLLECTIFS CITOYENS ET/OU MILITANTS : TA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ZA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DD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O TA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O MU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)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ordination nation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nvergence nationa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mité de Vigilan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llectifs d’Aides aux Migra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ntatives de PARTICIPATION à la gestion locale et/ou municip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comités de quartier, municipalisme ou communalisme (Murray BOOKCHIN), 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lles frappées d’autoges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andoncourt, Marinale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13:33Z</dcterms:created>
  <dc:creator>Michel ANTONY</dc:creator>
  <dc:description/>
  <dc:language>en-US</dc:language>
  <cp:lastModifiedBy>Michel ANTONY</cp:lastModifiedBy>
  <dcterms:modified xsi:type="dcterms:W3CDTF">2018-05-12T12:12:17Z</dcterms:modified>
  <cp:revision>54</cp:revision>
  <dc:subject/>
  <dc:title>UTOPIES ET ALTERNATIVES.</dc:title>
</cp:coreProperties>
</file>